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533-4E52-40A3-9D4F-3E803816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BDA-A2DE-4B48-A514-A21E843F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FF4-0DB2-4738-85F5-BD732508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898-18CB-47BA-8968-AEAF3E9C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A3DE-F670-4A21-9AFD-F2567388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8AA3-1874-4D5E-AA87-569E2F45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46D1-3AD0-4D5A-B0DB-7AD2797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C96A-EF7A-4899-8382-E52B6D9B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4B70-F40E-4B0D-B945-2AF0B03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095A-09A5-4FDA-93AF-3A6E8D77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F4B0-9803-4F7A-9B96-FD844119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DD1-3B85-4177-AA39-0F2C1401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EFD7-4B45-44F7-A84E-B04BCA50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03E9-7DAD-4666-8B05-84F0A654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61A5-090F-4532-A07C-BCF49E7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C7DF-4199-43B2-B46E-9AD4C161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5CA9-9760-43C2-974B-7E7BA657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295-3FB9-4DD4-94A8-8452293B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B4C-6F32-4661-9F0E-09EA81FB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2DC-39DF-4D0C-94CA-45A731C4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E25-6E8C-4CB9-AFA3-165D26B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739-0480-4A5B-88CD-40BAB069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0A9-9ADC-4F95-81D6-30BDC9D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0B5-23A7-4292-856C-9C5C6F44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2ABB-A310-4411-A7D6-0DFB81A7B8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CD16-0C61-40E6-AF9F-83DA1D698A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irectory.apache.org/" TargetMode="External"/><Relationship Id="rId2" Type="http://schemas.openxmlformats.org/officeDocument/2006/relationships/hyperlink" Target="http://directory.apache.org/subprojects/network" TargetMode="External"/><Relationship Id="rId3" Type="http://schemas.openxmlformats.org/officeDocument/2006/relationships/hyperlink" Target="mailto:dev@directory.apache.or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Introduction to MINA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79560" y="3573360"/>
            <a:ext cx="6400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ltipurpo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frastru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plic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5805360"/>
            <a:ext cx="64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ril 2005, Trustin Lee, ASF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MINA Does For You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spcAft>
                <a:spcPts val="1125"/>
              </a:spcAft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You NEVER need to program.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eam I/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read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cause it does ALL of them for you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n what do you have to do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You Should Do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first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I/O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IoHandl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98560" y="1484280"/>
            <a:ext cx="72738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second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53200" indent="-42192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Protocol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ProtocolProvi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exchanging objects (POJO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r codec performs transformations between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data buffers and messag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spcAft>
                <a:spcPts val="1500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luggable (thanks to polymorphis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take full advantage of OOP for message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1398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52360" y="1268280"/>
            <a:ext cx="864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Mechanis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(with Filters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09680" y="2766960"/>
            <a:ext cx="423396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311720" y="4883040"/>
            <a:ext cx="213192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Filter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A reusable event intercep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imilar to Servlet filt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an be added and removed “on-the-fly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Works in both coarse- and fine-grained way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Server Po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Individual Se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Implemented filter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Thread pool (= customizable thread model!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S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Client blacklist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79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Logging, Profiling, StartTLS, Peak Point Control, Traffic throttling, Firewall, and many more 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ny contributions are welcom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ustomizable thread mode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MINA runs in single thread mode by defaul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low-latenc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ThreadPoolFilt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 to make MINA  multi-thread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high-scalabilit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to Progra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lter Mechanis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of of Productiv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rchitecture Re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Proof of Productivity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mparis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5280" y="4508640"/>
            <a:ext cx="7559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 Core Java Tech Tips 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% CPU consumption while socket buffer is full. (doesn’t register for OP_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SL support (never triv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5640" y="1557360"/>
          <a:ext cx="7416720" cy="2508120"/>
        </p:xfrm>
        <a:graphic>
          <a:graphicData uri="http://schemas.openxmlformats.org/drawingml/2006/table">
            <a:tbl>
              <a:tblPr/>
              <a:tblGrid>
                <a:gridCol w="2303640"/>
                <a:gridCol w="2160360"/>
                <a:gridCol w="2952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in 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ho serv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 lines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lines (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5%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us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reusable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ter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Codec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Hand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ntain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y 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ore Complex Protocol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148428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ven echo server is hard to maintain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riting complex protocols with plain NIO is the beginning of your nightmare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9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Protocol Layer is your cozy pillow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2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nown implementations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42840" y="4581360"/>
          <a:ext cx="4176720" cy="1440000"/>
        </p:xfrm>
        <a:graphic>
          <a:graphicData uri="http://schemas.openxmlformats.org/drawingml/2006/table">
            <a:tbl>
              <a:tblPr/>
              <a:tblGrid>
                <a:gridCol w="2012760"/>
                <a:gridCol w="2163960"/>
              </a:tblGrid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DA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rber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Pv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flexible and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at boosts developer productivit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Contribute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 a subprojec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000" spc="-1" strike="noStrike" u="sng">
                <a:solidFill>
                  <a:srgbClr val="bb9321"/>
                </a:solidFill>
                <a:uFillTx/>
                <a:latin typeface="Tahoma"/>
                <a:hlinkClick r:id="rId1"/>
              </a:rPr>
              <a:t>the Apache Directory Proje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mepage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2"/>
              </a:rPr>
              <a:t>http://directory.apache.org/subprojects/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iling List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3"/>
              </a:rPr>
              <a:t>dev@directory.apache.org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(Use ‘[mina]’ prefix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Over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MINA?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19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eature-r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ensib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signed for agile client/server programm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16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 or server-less unit tes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high reusability and maintain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Yet scalable / high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I/O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MINA abstracts all low-level I/O via abstract AP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Courier New"/>
              </a:rPr>
              <a:t>IoHandler</a:t>
            </a: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s get notified when I/O events occ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42920" y="1557360"/>
          <a:ext cx="734544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34544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085760" y="2924280"/>
            <a:ext cx="3946680" cy="649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1085760" y="4235400"/>
            <a:ext cx="3946680" cy="64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Protocol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76360" y="1268280"/>
          <a:ext cx="684072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68280"/>
                    <a:ext cx="684072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254480" y="2924280"/>
            <a:ext cx="2203560" cy="100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008080" y="4221000"/>
            <a:ext cx="4465800" cy="1008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ilt upon I/O lay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od when you implement complex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ommunicate by sending and receiving message objects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ngle API for various transport ty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ighly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nit-test your server using mock objec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 real clients anymor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nce a protocol implemented, it works for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 socke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CP/IP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DP/I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-VM pip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NIO socke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alle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cast (when Mustang is rea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Progra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6:14:50Z</dcterms:created>
  <dc:creator>Trustin Lee</dc:creator>
  <dc:description/>
  <dc:language>en-US</dc:language>
  <cp:lastModifiedBy>Trustin Lee</cp:lastModifiedBy>
  <dcterms:modified xsi:type="dcterms:W3CDTF">2005-05-02T08:59:34Z</dcterms:modified>
  <cp:revision>174</cp:revision>
  <dc:subject>Introduction to MINA</dc:subject>
  <dc:title>Introduction to MINA</dc:title>
</cp:coreProperties>
</file>