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8A6-8B76-48CD-8DAA-55B44697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92C-A21B-4838-85F4-B29E9ADE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5DC-2969-499A-A7F9-4DE48B3D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7F8-07CA-4297-8F1C-7B3E52FE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B59-F620-4EB0-BB3C-ECF54EE2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6D8-8683-444C-BCF4-3A4BC9B0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004-0066-4238-9049-81AEE7F3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0A8-9ED3-4804-86FB-2FEF4A8F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8C4-327F-4541-88B5-46E685FF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A71-FBE8-4AAC-90C5-0691F9E2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B19-C97F-468C-90FD-46D0E6D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EE3-758F-4E2F-8B25-573D0326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FD18-04F7-453F-8B70-4A4A31BA5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0080" y="2916360"/>
            <a:ext cx="100836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516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1-01T13:30:19Z</dcterms:modified>
  <cp:revision>52</cp:revision>
  <dc:subject/>
  <dc:title>Présentation PowerPoint</dc:title>
</cp:coreProperties>
</file>