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BD54-BACA-4BC6-B30D-DF53EE2ED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498F-077F-433E-B991-864EFADF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F688-1047-44D8-A03C-4667F6AD0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E7F4-72B9-4264-895F-59D9413AE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E8D1-5AC5-4F31-B6B2-9D1F92BB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B709-210D-4C5B-97DF-2F5654A3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CC93-252E-4659-BA66-40B491A2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CCD5-DFD1-4758-A114-A6C941A1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499D-51FB-40BC-A660-6302D3B8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0561-3DAF-4B95-849C-3E6DE7C3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3BAC-1C07-4F0F-B252-9C07CFD7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5495-13BF-44EE-B418-8AD2D370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D74D-BFC9-4D23-8613-06B877D58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907920"/>
            <a:ext cx="331344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03280" y="1413000"/>
            <a:ext cx="1224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rcep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74920" y="2708280"/>
            <a:ext cx="1009800" cy="1008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97120" y="1557360"/>
            <a:ext cx="362160" cy="503280"/>
          </a:xfrm>
          <a:prstGeom prst="rightArrow">
            <a:avLst>
              <a:gd name="adj1" fmla="val 45111"/>
              <a:gd name="adj2" fmla="val 4429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00360" y="1197000"/>
            <a:ext cx="2890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64000" y="907920"/>
            <a:ext cx="324036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580000" y="90792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08720" y="1413000"/>
            <a:ext cx="1224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36000" y="1341360"/>
            <a:ext cx="122364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rcep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02560" y="1557360"/>
            <a:ext cx="361800" cy="503280"/>
          </a:xfrm>
          <a:prstGeom prst="rightArrow">
            <a:avLst>
              <a:gd name="adj1" fmla="val 45111"/>
              <a:gd name="adj2" fmla="val 4429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236000" y="2781360"/>
            <a:ext cx="12236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p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25840" y="1557360"/>
            <a:ext cx="1009800" cy="503280"/>
          </a:xfrm>
          <a:prstGeom prst="rightArrow">
            <a:avLst>
              <a:gd name="adj1" fmla="val 45111"/>
              <a:gd name="adj2" fmla="val 359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14920" y="1197000"/>
            <a:ext cx="28872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211280" y="2133720"/>
            <a:ext cx="3024360" cy="863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76360" y="907920"/>
            <a:ext cx="33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04000" y="1197000"/>
            <a:ext cx="2890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08720" y="2349360"/>
            <a:ext cx="289080" cy="2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35640" y="2637000"/>
            <a:ext cx="28872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67640" y="2276640"/>
            <a:ext cx="43164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6000" y="2637000"/>
            <a:ext cx="28872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763640" y="2275920"/>
            <a:ext cx="432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32000" y="1413000"/>
            <a:ext cx="1224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est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2781360"/>
            <a:ext cx="1224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Test Ru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03280" y="2349360"/>
            <a:ext cx="289080" cy="2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56000" y="2205000"/>
            <a:ext cx="792000" cy="719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3640" y="2492280"/>
            <a:ext cx="28872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66920" y="2349360"/>
            <a:ext cx="289080" cy="2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06:50:50Z</dcterms:created>
  <dc:creator>Vincent Massol</dc:creator>
  <dc:description/>
  <dc:language>en-US</dc:language>
  <cp:lastModifiedBy>Vincent Massol</cp:lastModifiedBy>
  <dcterms:modified xsi:type="dcterms:W3CDTF">2003-12-23T12:49:51Z</dcterms:modified>
  <cp:revision>40</cp:revision>
  <dc:subject/>
  <dc:title>Présentation PowerPoint</dc:title>
</cp:coreProperties>
</file>