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DA16B-789A-40B5-91A1-323207159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86785-0670-4710-93BA-8029B17EE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55AF1-FB52-4FDF-A3F5-72021B8BD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ED11C-1DC1-48BB-AFDF-38984C156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77FE7-CF12-474E-AF47-DAC04210F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CAE0F-B032-4FE2-9114-3A3A4B4AD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50A19-F20F-4336-9A17-6A75F3E58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B97AE-0D79-44CC-8B7B-14FAFCBF9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D89BA-3D93-433E-ADEB-B40054E7D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62898-139E-462C-8E35-6BE1EE3D7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4C747-4B72-4403-9109-EDA0E7E6F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0F1E1-72D1-490D-8730-2FAD0DC5D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00D86-DC20-4333-BF91-6C49A5D420A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859280" y="189000"/>
            <a:ext cx="2376720" cy="934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ff"/>
              </a:gs>
              <a:gs pos="100000">
                <a:srgbClr val="c19a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859280" y="189000"/>
            <a:ext cx="237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Servlet contain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859280" y="1197000"/>
            <a:ext cx="2376720" cy="934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ff"/>
              </a:gs>
              <a:gs pos="100000">
                <a:srgbClr val="c19a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859280" y="1197000"/>
            <a:ext cx="237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JB contain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859280" y="2205000"/>
            <a:ext cx="2376720" cy="934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ff"/>
              </a:gs>
              <a:gs pos="100000">
                <a:srgbClr val="c19a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859280" y="2205000"/>
            <a:ext cx="237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IDE (Eclipse, IntelliJ,…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859280" y="3213000"/>
            <a:ext cx="2376720" cy="935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ff"/>
              </a:gs>
              <a:gs pos="100000">
                <a:srgbClr val="c19a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859280" y="3213000"/>
            <a:ext cx="237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JMS listen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859280" y="4221000"/>
            <a:ext cx="2376720" cy="935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ff"/>
              </a:gs>
              <a:gs pos="100000">
                <a:srgbClr val="c19a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859280" y="4221000"/>
            <a:ext cx="237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EAI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411280" y="333360"/>
            <a:ext cx="1584360" cy="72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A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integ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411280" y="1125360"/>
            <a:ext cx="1584360" cy="721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Ma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integ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411280" y="1917720"/>
            <a:ext cx="1584360" cy="72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I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integ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11280" y="2709720"/>
            <a:ext cx="1584360" cy="72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Jetty/Open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EJ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integ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411280" y="3502080"/>
            <a:ext cx="1584360" cy="72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Brows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integ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411280" y="4292640"/>
            <a:ext cx="1584360" cy="72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Manu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11280" y="2276640"/>
            <a:ext cx="1079280" cy="86508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100000">
                <a:srgbClr val="fee5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2133720"/>
            <a:ext cx="1079280" cy="86508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100000">
                <a:srgbClr val="fee5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4000" y="1916280"/>
            <a:ext cx="1079280" cy="86508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100000">
                <a:srgbClr val="fee5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test ca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763640" y="2349360"/>
            <a:ext cx="576360" cy="503280"/>
          </a:xfrm>
          <a:prstGeom prst="rightArrow">
            <a:avLst>
              <a:gd name="adj1" fmla="val 50000"/>
              <a:gd name="adj2" fmla="val 2863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067280" y="2349360"/>
            <a:ext cx="720720" cy="503280"/>
          </a:xfrm>
          <a:prstGeom prst="rightArrow">
            <a:avLst>
              <a:gd name="adj1" fmla="val 50000"/>
              <a:gd name="adj2" fmla="val 35801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5796000" y="549360"/>
            <a:ext cx="503280" cy="504720"/>
            <a:chOff x="5796000" y="549360"/>
            <a:chExt cx="503280" cy="504720"/>
          </a:xfrm>
        </p:grpSpPr>
        <p:sp>
          <p:nvSpPr>
            <p:cNvPr id="63" name=""/>
            <p:cNvSpPr/>
            <p:nvPr/>
          </p:nvSpPr>
          <p:spPr>
            <a:xfrm>
              <a:off x="5938920" y="693720"/>
              <a:ext cx="360360" cy="360360"/>
            </a:xfrm>
            <a:prstGeom prst="rect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fee5c1"/>
                </a:gs>
              </a:gsLst>
              <a:lin ang="5400000"/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67280" y="620640"/>
              <a:ext cx="360360" cy="360360"/>
            </a:xfrm>
            <a:prstGeom prst="rect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fee5c1"/>
                </a:gs>
              </a:gsLst>
              <a:lin ang="5400000"/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796000" y="549360"/>
              <a:ext cx="360360" cy="360360"/>
            </a:xfrm>
            <a:prstGeom prst="rect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fee5c1"/>
                </a:gs>
              </a:gsLst>
              <a:lin ang="5400000"/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5796000" y="1557360"/>
            <a:ext cx="503280" cy="504720"/>
            <a:chOff x="5796000" y="1557360"/>
            <a:chExt cx="503280" cy="504720"/>
          </a:xfrm>
        </p:grpSpPr>
        <p:sp>
          <p:nvSpPr>
            <p:cNvPr id="67" name=""/>
            <p:cNvSpPr/>
            <p:nvPr/>
          </p:nvSpPr>
          <p:spPr>
            <a:xfrm>
              <a:off x="5938920" y="1701720"/>
              <a:ext cx="360360" cy="360360"/>
            </a:xfrm>
            <a:prstGeom prst="rect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fee5c1"/>
                </a:gs>
              </a:gsLst>
              <a:lin ang="5400000"/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67280" y="1628640"/>
              <a:ext cx="360360" cy="360360"/>
            </a:xfrm>
            <a:prstGeom prst="rect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fee5c1"/>
                </a:gs>
              </a:gsLst>
              <a:lin ang="5400000"/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796000" y="1557360"/>
              <a:ext cx="360360" cy="360360"/>
            </a:xfrm>
            <a:prstGeom prst="rect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fee5c1"/>
                </a:gs>
              </a:gsLst>
              <a:lin ang="5400000"/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5796000" y="4581360"/>
            <a:ext cx="503280" cy="504720"/>
            <a:chOff x="5796000" y="4581360"/>
            <a:chExt cx="503280" cy="504720"/>
          </a:xfrm>
        </p:grpSpPr>
        <p:sp>
          <p:nvSpPr>
            <p:cNvPr id="71" name=""/>
            <p:cNvSpPr/>
            <p:nvPr/>
          </p:nvSpPr>
          <p:spPr>
            <a:xfrm>
              <a:off x="5938920" y="4725720"/>
              <a:ext cx="360360" cy="360360"/>
            </a:xfrm>
            <a:prstGeom prst="rect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fee5c1"/>
                </a:gs>
              </a:gsLst>
              <a:lin ang="5400000"/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867280" y="4652640"/>
              <a:ext cx="360360" cy="360360"/>
            </a:xfrm>
            <a:prstGeom prst="rect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fee5c1"/>
                </a:gs>
              </a:gsLst>
              <a:lin ang="5400000"/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796000" y="4581360"/>
              <a:ext cx="360360" cy="360360"/>
            </a:xfrm>
            <a:prstGeom prst="rect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fee5c1"/>
                </a:gs>
              </a:gsLst>
              <a:lin ang="5400000"/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5796000" y="3573360"/>
            <a:ext cx="503280" cy="504720"/>
            <a:chOff x="5796000" y="3573360"/>
            <a:chExt cx="503280" cy="504720"/>
          </a:xfrm>
        </p:grpSpPr>
        <p:sp>
          <p:nvSpPr>
            <p:cNvPr id="75" name=""/>
            <p:cNvSpPr/>
            <p:nvPr/>
          </p:nvSpPr>
          <p:spPr>
            <a:xfrm>
              <a:off x="5938920" y="3717720"/>
              <a:ext cx="360360" cy="360360"/>
            </a:xfrm>
            <a:prstGeom prst="rect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fee5c1"/>
                </a:gs>
              </a:gsLst>
              <a:lin ang="5400000"/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867280" y="3644640"/>
              <a:ext cx="360360" cy="360360"/>
            </a:xfrm>
            <a:prstGeom prst="rect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fee5c1"/>
                </a:gs>
              </a:gsLst>
              <a:lin ang="5400000"/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796000" y="3573360"/>
              <a:ext cx="360360" cy="360360"/>
            </a:xfrm>
            <a:prstGeom prst="rect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fee5c1"/>
                </a:gs>
              </a:gsLst>
              <a:lin ang="5400000"/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" name=""/>
          <p:cNvGrpSpPr/>
          <p:nvPr/>
        </p:nvGrpSpPr>
        <p:grpSpPr>
          <a:xfrm>
            <a:off x="5867280" y="2565360"/>
            <a:ext cx="503280" cy="504720"/>
            <a:chOff x="5867280" y="2565360"/>
            <a:chExt cx="503280" cy="504720"/>
          </a:xfrm>
        </p:grpSpPr>
        <p:sp>
          <p:nvSpPr>
            <p:cNvPr id="79" name=""/>
            <p:cNvSpPr/>
            <p:nvPr/>
          </p:nvSpPr>
          <p:spPr>
            <a:xfrm>
              <a:off x="6010200" y="2709720"/>
              <a:ext cx="360360" cy="360360"/>
            </a:xfrm>
            <a:prstGeom prst="rect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fee5c1"/>
                </a:gs>
              </a:gsLst>
              <a:lin ang="5400000"/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5938560" y="2636640"/>
              <a:ext cx="360360" cy="360360"/>
            </a:xfrm>
            <a:prstGeom prst="rect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fee5c1"/>
                </a:gs>
              </a:gsLst>
              <a:lin ang="5400000"/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867280" y="2565360"/>
              <a:ext cx="360360" cy="360360"/>
            </a:xfrm>
            <a:prstGeom prst="rect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fee5c1"/>
                </a:gs>
              </a:gsLst>
              <a:lin ang="5400000"/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08000" y="477720"/>
            <a:ext cx="2736720" cy="935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ff"/>
              </a:gs>
              <a:gs pos="100000">
                <a:srgbClr val="c19a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81080" y="549360"/>
            <a:ext cx="1224000" cy="792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100000">
                <a:srgbClr val="fee5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JUnit T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48000" y="549360"/>
            <a:ext cx="1584360" cy="792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runn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476360" y="549360"/>
            <a:ext cx="1297080" cy="792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sp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08000" y="117360"/>
            <a:ext cx="27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Cactus Test C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5437080" y="477720"/>
            <a:ext cx="2376720" cy="936720"/>
            <a:chOff x="5437080" y="477720"/>
            <a:chExt cx="2376720" cy="936720"/>
          </a:xfrm>
        </p:grpSpPr>
        <p:sp>
          <p:nvSpPr>
            <p:cNvPr id="88" name=""/>
            <p:cNvSpPr/>
            <p:nvPr/>
          </p:nvSpPr>
          <p:spPr>
            <a:xfrm>
              <a:off x="5437080" y="477720"/>
              <a:ext cx="2376720" cy="936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ccff"/>
                </a:gs>
                <a:gs pos="100000">
                  <a:srgbClr val="c19ac1"/>
                </a:gs>
              </a:gsLst>
              <a:lin ang="5400000"/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437080" y="477720"/>
              <a:ext cx="2376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Contain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0" name=""/>
            <p:cNvGrpSpPr/>
            <p:nvPr/>
          </p:nvGrpSpPr>
          <p:grpSpPr>
            <a:xfrm>
              <a:off x="6227640" y="838080"/>
              <a:ext cx="792360" cy="289080"/>
              <a:chOff x="6227640" y="838080"/>
              <a:chExt cx="792360" cy="289080"/>
            </a:xfrm>
          </p:grpSpPr>
          <p:sp>
            <p:nvSpPr>
              <p:cNvPr id="91" name=""/>
              <p:cNvSpPr/>
              <p:nvPr/>
            </p:nvSpPr>
            <p:spPr>
              <a:xfrm>
                <a:off x="6227640" y="838080"/>
                <a:ext cx="792360" cy="28908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ffccff"/>
                  </a:gs>
                  <a:gs pos="100000">
                    <a:srgbClr val="c19ac1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6248520" y="862200"/>
                <a:ext cx="354240" cy="24120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a3c2ff"/>
                  </a:gs>
                  <a:gs pos="100000">
                    <a:srgbClr val="dfe9fe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6623640" y="862200"/>
                <a:ext cx="375480" cy="24120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ff9900"/>
                  </a:gs>
                  <a:gs pos="100000">
                    <a:srgbClr val="fee5c1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4" name=""/>
            <p:cNvGrpSpPr/>
            <p:nvPr/>
          </p:nvGrpSpPr>
          <p:grpSpPr>
            <a:xfrm>
              <a:off x="6300720" y="911160"/>
              <a:ext cx="792360" cy="288720"/>
              <a:chOff x="6300720" y="911160"/>
              <a:chExt cx="792360" cy="288720"/>
            </a:xfrm>
          </p:grpSpPr>
          <p:sp>
            <p:nvSpPr>
              <p:cNvPr id="95" name=""/>
              <p:cNvSpPr/>
              <p:nvPr/>
            </p:nvSpPr>
            <p:spPr>
              <a:xfrm>
                <a:off x="6300720" y="911160"/>
                <a:ext cx="792360" cy="28872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ffccff"/>
                  </a:gs>
                  <a:gs pos="100000">
                    <a:srgbClr val="c19ac1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6321600" y="934920"/>
                <a:ext cx="354240" cy="24084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a3c2ff"/>
                  </a:gs>
                  <a:gs pos="100000">
                    <a:srgbClr val="dfe9fe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6696720" y="934920"/>
                <a:ext cx="375480" cy="24084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ff9900"/>
                  </a:gs>
                  <a:gs pos="100000">
                    <a:srgbClr val="fee5c1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8" name=""/>
            <p:cNvGrpSpPr/>
            <p:nvPr/>
          </p:nvGrpSpPr>
          <p:grpSpPr>
            <a:xfrm>
              <a:off x="6372360" y="982440"/>
              <a:ext cx="792000" cy="289080"/>
              <a:chOff x="6372360" y="982440"/>
              <a:chExt cx="792000" cy="289080"/>
            </a:xfrm>
          </p:grpSpPr>
          <p:sp>
            <p:nvSpPr>
              <p:cNvPr id="99" name=""/>
              <p:cNvSpPr/>
              <p:nvPr/>
            </p:nvSpPr>
            <p:spPr>
              <a:xfrm>
                <a:off x="6372360" y="982440"/>
                <a:ext cx="792000" cy="28908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ffccff"/>
                  </a:gs>
                  <a:gs pos="100000">
                    <a:srgbClr val="c19ac1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393240" y="1006560"/>
                <a:ext cx="354240" cy="24120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a3c2ff"/>
                  </a:gs>
                  <a:gs pos="100000">
                    <a:srgbClr val="dfe9fe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6768360" y="1006560"/>
                <a:ext cx="375480" cy="24120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ff9900"/>
                  </a:gs>
                  <a:gs pos="100000">
                    <a:srgbClr val="fee5c1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2" name=""/>
          <p:cNvSpPr/>
          <p:nvPr/>
        </p:nvSpPr>
        <p:spPr>
          <a:xfrm>
            <a:off x="2916360" y="693720"/>
            <a:ext cx="361800" cy="503280"/>
          </a:xfrm>
          <a:prstGeom prst="rightArrow">
            <a:avLst>
              <a:gd name="adj1" fmla="val 45111"/>
              <a:gd name="adj2" fmla="val 44296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002200" y="693720"/>
            <a:ext cx="361800" cy="503280"/>
          </a:xfrm>
          <a:prstGeom prst="rightArrow">
            <a:avLst>
              <a:gd name="adj1" fmla="val 45111"/>
              <a:gd name="adj2" fmla="val 44296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14T06:50:50Z</dcterms:created>
  <dc:creator>Vincent Massol</dc:creator>
  <dc:description/>
  <dc:language>en-US</dc:language>
  <cp:lastModifiedBy>Vincent Massol</cp:lastModifiedBy>
  <dcterms:modified xsi:type="dcterms:W3CDTF">2003-12-19T08:04:01Z</dcterms:modified>
  <cp:revision>23</cp:revision>
  <dc:subject/>
  <dc:title>Présentation PowerPoint</dc:title>
</cp:coreProperties>
</file>