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362F-59C6-4AE2-8A90-9B33344E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016A-147F-46D8-9FF6-FFA36CF6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FF85-0391-411D-A452-EB702324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0E23-789A-438C-8ECB-DE149EE6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2803-DE85-4921-8D86-EE1793B9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7C2C-CCC1-41DA-A37F-61EEEB69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E2F3-17CD-49C5-87BE-1845B00C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C6DC-7B2B-4A67-A10F-6071E5F2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8484-0876-4597-A4E8-1C018D06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95F1-F3B1-487D-BC10-52247C89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AA00-D34B-4B10-9DEA-31FFDEFF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7E2F-61AB-4CC9-9DC2-8F02BC9D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F3D3-ED3D-48BB-8379-9231550F4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114800"/>
            <a:ext cx="2666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ag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146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48120" y="19810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8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526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2590920"/>
            <a:ext cx="4572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590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3200400"/>
            <a:ext cx="457200" cy="304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0481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rk in progress. Partly available in Cactus or soon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38098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38098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urrently out of Cactus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2-04-14T08:58:57Z</dcterms:modified>
  <cp:revision>12</cp:revision>
  <dc:subject/>
  <dc:title>Présentation PowerPoint</dc:title>
</cp:coreProperties>
</file>