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E56-D364-4F69-8405-6949E2F9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6C5-C729-46C0-BAF1-48818CA2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C81-837B-4D03-A2D4-72DD3695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997-C1A1-45D5-BD26-AD600479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166-4FE8-44C7-91BB-DC4D00F9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844-DB9C-439F-9771-EA887BF4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CAF-9032-4687-91A0-19A6A843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F86-5124-43FC-B084-FF307DED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ABE-3A12-4EB4-BA8E-FE340C91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E5B-AADD-4DBA-89EE-A228C79C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5EA-C784-46E8-84FE-2EBB574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11B-23E9-472C-A15B-AA49939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1966-6B90-4166-A746-6D3B7B755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3886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7628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62064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1413000"/>
            <a:ext cx="1143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19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348000" y="1773360"/>
            <a:ext cx="2087640" cy="13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43520" y="263700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26370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43520" y="324648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30942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43520" y="385596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85596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620640"/>
            <a:ext cx="936360" cy="129564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1295640"/>
              <a:gd name="textAreaBottom" fmla="*/ 1249920 h 1295640"/>
            </a:gdLst>
            <a:ahLst/>
            <a:rect l="textAreaLeft" t="textAreaTop" r="textAreaRight" b="textAreaBottom"/>
            <a:pathLst>
              <a:path w="21600" h="29885">
                <a:moveTo>
                  <a:pt x="3600" y="0"/>
                </a:moveTo>
                <a:arcTo wR="3600" hR="3600" stAng="16200000" swAng="-5400000"/>
                <a:lnTo>
                  <a:pt x="0" y="26285"/>
                </a:lnTo>
                <a:arcTo wR="3600" hR="3600" stAng="10800000" swAng="-5400000"/>
                <a:lnTo>
                  <a:pt x="18000" y="29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tahchiev</cp:lastModifiedBy>
  <dcterms:modified xsi:type="dcterms:W3CDTF">2008-02-01T14:46:25Z</dcterms:modified>
  <cp:revision>14</cp:revision>
  <dc:subject/>
  <dc:title>Présentation PowerPoint</dc:title>
</cp:coreProperties>
</file>