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642-067A-41D7-B86B-A6DD7A7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16D-5266-43FF-8AC1-AF06D4AD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FB1-A54F-402B-99D7-ACB4C482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AC9-68F5-4038-BFD1-81FDABEF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3FF-87A5-43C5-A8FA-31F9E39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5A2-8D42-4BC1-A7F9-61725E43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EEB-BBAD-47DE-9606-CA7BF78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8D9-A677-445B-A2F1-54089EE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988-6BFB-42EB-BAB2-030D5541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0D0-12B8-4F7B-AA91-8DD39DC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C81-4EE9-40A3-8F0D-2FBDBE8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369-41BF-41A5-8591-5431D10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5B8-41AD-4670-BF71-067F4E44E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3:22:30Z</dcterms:modified>
  <cp:revision>12</cp:revision>
  <dc:subject/>
  <dc:title>Présentation PowerPoint</dc:title>
</cp:coreProperties>
</file>