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13E4-8D99-48D4-BCE3-6797C2589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A3D1-D1A8-4BE4-914A-8DDED0474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B36C-2857-453F-9D5D-04964F047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85CC-195A-402B-B5F2-8AC82577C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1693-C995-4E89-A6A1-22506923A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431F-4533-482D-AAD7-51BF34DB3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40E6-9D64-46C8-804E-E1027C2AB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12A0-3911-4B13-A256-6AE0E0FEB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63BC-2A0A-4CE6-A862-2D1C4E0C4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7625-F721-44B7-A063-0EBE6546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3C69-69E9-4F28-8AFF-2FD5A3E33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CB8E-0FE7-413E-9D60-37C669FD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810C9-32AA-43BB-BE7C-B45E0D4E25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YY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YY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3920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4572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320" y="16574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55736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0020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5120" y="228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1981080"/>
            <a:ext cx="106704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038480" y="1752480"/>
            <a:ext cx="13716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2428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147636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42864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812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44756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91120" y="1905120"/>
            <a:ext cx="106668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14800" y="1828800"/>
            <a:ext cx="10666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380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267080" y="152280"/>
            <a:ext cx="106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tUp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XXX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arDow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ien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05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00200" y="1295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2602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17431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4-04-21T19:22:13Z</dcterms:modified>
  <cp:revision>7</cp:revision>
  <dc:subject/>
  <dc:title>Présentation PowerPoint</dc:title>
</cp:coreProperties>
</file>