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BB25-BBE5-4F64-A5FE-89A076F8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2796-4355-4DD9-83B3-716386D7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7B63-908C-4D5F-A351-47083CCC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29EC-CC3A-45AE-B1FD-18C7F701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28BB-0E80-4EC5-A32D-59EBC291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1CE1-1CED-4AAE-B4C2-05F7895B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703F-03B2-411C-94EB-C264087C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3986-5B79-47B7-9887-E92BF6F4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F725-EC81-48C7-ACAD-0FC85934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6509-6279-4850-AAAE-C4D1C9A0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5E5A-9D14-437C-9B20-44A22B20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2B6C-A2DF-44FC-9FBB-B30230AB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BD4F-9719-4053-8B81-D9533AE0A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3:23Z</dcterms:modified>
  <cp:revision>6</cp:revision>
  <dc:subject/>
  <dc:title>Présentation PowerPoint</dc:title>
</cp:coreProperties>
</file>