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37C-36C0-4743-B0FC-F826B042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6F9-1BF0-47CA-BD8E-AAC0EC7A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AE4-7183-4E35-970F-15B71B02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B72-EE55-4BAB-9FBA-00F44D7D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AC9-325D-44CF-BB26-6FC08FAD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866-1126-43BE-889E-436E04E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9CA-C120-4BEE-9AAE-A22C315D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2FD-C7D5-4307-A5C1-17B700FE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312-D953-4EE3-9FFD-59D5849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BB6-7284-48A6-A682-53B2E37E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23E-0E26-4B93-A0A9-2FC9304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F97-AE05-45D3-8870-91D42E0B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5E43-2015-47AF-B7E1-20BDF53CD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492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981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0028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213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2T15:24:28Z</dcterms:modified>
  <cp:revision>55</cp:revision>
  <dc:subject/>
  <dc:title>Présentation PowerPoint</dc:title>
</cp:coreProperties>
</file>