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083-CAA9-4BE4-9E73-CA27C99F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774-FFE3-41A4-86D7-37856DFF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9E2-879A-47E1-9C4A-F008AAAB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5F9-BA56-422C-A5CF-2F5A914B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47C-39BD-47D2-BE9A-D1A3340D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0E8-629B-4291-BACB-1B50BA7C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7CF-AB09-49D0-A73D-42E914C4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CDC-CFF3-4754-9BE9-E0AA0825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1FF-831C-434E-8ECC-E0D1311A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D3F-EDD0-4BA7-97DB-8A4C55B5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B70-6D38-45C4-85A7-8AD7E3AF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279-E734-416A-8FD6-7A004D1A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AB6A-5009-403A-B5D6-ACD11BDB0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551340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5513400"/>
              <a:gd name="textAreaBottom" fmla="*/ 5405760 h 5513400"/>
            </a:gdLst>
            <a:ahLst/>
            <a:rect l="textAreaLeft" t="textAreaTop" r="textAreaRight" b="textAreaBottom"/>
            <a:pathLst>
              <a:path w="21600" h="53889">
                <a:moveTo>
                  <a:pt x="3600" y="0"/>
                </a:moveTo>
                <a:arcTo wR="3600" hR="3600" stAng="16200000" swAng="-5400000"/>
                <a:lnTo>
                  <a:pt x="0" y="50289"/>
                </a:lnTo>
                <a:arcTo wR="3600" hR="3600" stAng="10800000" swAng="-5400000"/>
                <a:lnTo>
                  <a:pt x="18000" y="538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22273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227320"/>
              <a:gd name="textAreaBottom" fmla="*/ 2126880 h 2227320"/>
            </a:gdLst>
            <a:ahLst/>
            <a:rect l="textAreaLeft" t="textAreaTop" r="textAreaRight" b="textAreaBottom"/>
            <a:pathLst>
              <a:path w="21600" h="23384">
                <a:moveTo>
                  <a:pt x="3600" y="0"/>
                </a:moveTo>
                <a:arcTo wR="3600" hR="3600" stAng="16200000" swAng="-5400000"/>
                <a:lnTo>
                  <a:pt x="0" y="19784"/>
                </a:lnTo>
                <a:arcTo wR="3600" hR="3600" stAng="10800000" swAng="-5400000"/>
                <a:lnTo>
                  <a:pt x="18000" y="23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5734080"/>
            <a:ext cx="8380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5734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165720"/>
            <a:ext cx="8380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6165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4869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go-a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869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go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141720"/>
            <a:ext cx="190476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rgo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2-01T12:24:13Z</dcterms:modified>
  <cp:revision>48</cp:revision>
  <dc:subject/>
  <dc:title>Présentation PowerPoint</dc:title>
</cp:coreProperties>
</file>