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426-6D58-48A7-8F66-55365281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A6A-E9C6-42C8-971E-9C977165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2C2-00DC-4DBD-BC94-0D9144D6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43B-BA42-4FBE-847B-B0148DF7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1434-3125-4C7A-BD22-EC614F07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057-22D0-4182-94B3-D70D058B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66F-9F5C-4BF4-85E4-2C1F5B6D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A20-1616-498A-BCFE-55CB6D37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C1C-B17B-487F-A336-6548634F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133-5BA1-44DC-BB0C-8F12F6BB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272-4CB7-4B50-8C22-05361EA3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F63-59CD-49BC-BAD6-6AB92048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DB10-AA5A-4C95-A745-740459DC6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2565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105264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1773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24360" y="328464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SF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tahchiev</cp:lastModifiedBy>
  <dcterms:modified xsi:type="dcterms:W3CDTF">2008-03-22T23:56:38Z</dcterms:modified>
  <cp:revision>53</cp:revision>
  <dc:subject/>
  <dc:title>Présentation PowerPoint</dc:title>
</cp:coreProperties>
</file>