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1E6A-CD25-492A-A746-49AF1D46E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F95-40DB-4D62-94AC-A5DF6E90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7349-293A-4548-A46C-85918CB7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EEB-44D4-4678-92B1-6069285C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90E8-0719-429E-8077-154B2039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191E-6CF8-4344-A251-4AF374EB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EF58-20B6-476A-B79E-661AF1E0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544-9526-42C5-94B8-28DBD0179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F178-4C8A-44A6-822B-CCF225164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D8462-57B1-433D-81FD-FC684383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D791-7DCD-4F53-AF00-81B8BFA5E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3D2-0BC4-467B-B88A-748A4AEC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0C4A-8BF4-4420-B406-084928A93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551340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5513400"/>
              <a:gd name="textAreaBottom" fmla="*/ 5405760 h 5513400"/>
            </a:gdLst>
            <a:ahLst/>
            <a:rect l="textAreaLeft" t="textAreaTop" r="textAreaRight" b="textAreaBottom"/>
            <a:pathLst>
              <a:path w="21600" h="53889">
                <a:moveTo>
                  <a:pt x="3600" y="0"/>
                </a:moveTo>
                <a:arcTo wR="3600" hR="3600" stAng="16200000" swAng="-5400000"/>
                <a:lnTo>
                  <a:pt x="0" y="50289"/>
                </a:lnTo>
                <a:arcTo wR="3600" hR="3600" stAng="10800000" swAng="-5400000"/>
                <a:lnTo>
                  <a:pt x="18000" y="538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22273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227320"/>
              <a:gd name="textAreaBottom" fmla="*/ 2126880 h 2227320"/>
            </a:gdLst>
            <a:ahLst/>
            <a:rect l="textAreaLeft" t="textAreaTop" r="textAreaRight" b="textAreaBottom"/>
            <a:pathLst>
              <a:path w="21600" h="23384">
                <a:moveTo>
                  <a:pt x="3600" y="0"/>
                </a:moveTo>
                <a:arcTo wR="3600" hR="3600" stAng="16200000" swAng="-5400000"/>
                <a:lnTo>
                  <a:pt x="0" y="19784"/>
                </a:lnTo>
                <a:arcTo wR="3600" hR="3600" stAng="10800000" swAng="-5400000"/>
                <a:lnTo>
                  <a:pt x="18000" y="233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08000" y="5734080"/>
            <a:ext cx="8380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42920" y="5734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165720"/>
            <a:ext cx="83808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42920" y="616572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58920" y="4869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go-a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486900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go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3141720"/>
            <a:ext cx="190476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rgo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2-01T12:24:13Z</dcterms:modified>
  <cp:revision>48</cp:revision>
  <dc:subject/>
  <dc:title>Présentation PowerPoint</dc:title>
</cp:coreProperties>
</file>