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EF23-43AC-43AF-8E8D-1387988E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AB27-D261-4C5A-BD50-09B50C82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435-0967-42E3-9476-EEC0E297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5393-CF71-4F57-AF0C-B28B34C77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D0F-32BA-4A2A-9FEE-517E2341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DA12B-12EF-4396-B543-F677BEE2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25B8-0F2D-4B43-BFB2-2FCA3C21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EE0C-3F3D-4EEB-B57A-0F45407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AFF0-BCDA-4F29-A38C-AEBA6D1C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544F-10B3-4D55-AAF7-875D0BA0D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C68-6509-44A3-8C4A-B3B73470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21A-D199-448F-B8FC-48ED9C82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D0A45-C638-4AEB-B5C7-939CC2D81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90920" y="76320"/>
            <a:ext cx="3276360" cy="479268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4792680"/>
              <a:gd name="textAreaBottom" fmla="*/ 4632840 h 4792680"/>
            </a:gdLst>
            <a:ahLst/>
            <a:rect l="textAreaLeft" t="textAreaTop" r="textAreaRight" b="textAreaBottom"/>
            <a:pathLst>
              <a:path w="21600" h="31596">
                <a:moveTo>
                  <a:pt x="3600" y="0"/>
                </a:moveTo>
                <a:arcTo wR="3600" hR="3600" stAng="16200000" swAng="-5400000"/>
                <a:lnTo>
                  <a:pt x="0" y="27996"/>
                </a:lnTo>
                <a:arcTo wR="3600" hR="3600" stAng="10800000" swAng="-5400000"/>
                <a:lnTo>
                  <a:pt x="18000" y="315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76320"/>
            <a:ext cx="2209680" cy="479268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4792680"/>
              <a:gd name="textAreaBottom" fmla="*/ 4685040 h 4792680"/>
            </a:gdLst>
            <a:ahLst/>
            <a:rect l="textAreaLeft" t="textAreaTop" r="textAreaRight" b="textAreaBottom"/>
            <a:pathLst>
              <a:path w="21600" h="46845">
                <a:moveTo>
                  <a:pt x="3600" y="0"/>
                </a:moveTo>
                <a:arcTo wR="3600" hR="3600" stAng="16200000" swAng="-5400000"/>
                <a:lnTo>
                  <a:pt x="0" y="43245"/>
                </a:lnTo>
                <a:arcTo wR="3600" hR="3600" stAng="10800000" swAng="-5400000"/>
                <a:lnTo>
                  <a:pt x="18000" y="4684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0060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457200"/>
            <a:ext cx="990720" cy="282744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30">
                <a:moveTo>
                  <a:pt x="3600" y="0"/>
                </a:moveTo>
                <a:arcTo wR="3600" hR="3600" stAng="16200000" swAng="-5400000"/>
                <a:lnTo>
                  <a:pt x="0" y="58030"/>
                </a:lnTo>
                <a:arcTo wR="3600" hR="3600" stAng="10800000" swAng="-5400000"/>
                <a:lnTo>
                  <a:pt x="18000" y="6163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33920" y="457200"/>
            <a:ext cx="990360" cy="282744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2827440"/>
              <a:gd name="textAreaBottom" fmla="*/ 2779200 h 2827440"/>
            </a:gdLst>
            <a:ahLst/>
            <a:rect l="textAreaLeft" t="textAreaTop" r="textAreaRight" b="textAreaBottom"/>
            <a:pathLst>
              <a:path w="21600" h="61653">
                <a:moveTo>
                  <a:pt x="3600" y="0"/>
                </a:moveTo>
                <a:arcTo wR="3600" hR="3600" stAng="16200000" swAng="-5400000"/>
                <a:lnTo>
                  <a:pt x="0" y="58053"/>
                </a:lnTo>
                <a:arcTo wR="3600" hR="3600" stAng="10800000" swAng="-5400000"/>
                <a:lnTo>
                  <a:pt x="18000" y="616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3362400"/>
            <a:ext cx="2057400" cy="143496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6669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5280" y="3666960"/>
            <a:ext cx="838440" cy="1057320"/>
          </a:xfrm>
          <a:custGeom>
            <a:avLst/>
            <a:gdLst>
              <a:gd name="textAreaLeft" fmla="*/ 40680 w 838440"/>
              <a:gd name="textAreaRight" fmla="*/ 797760 w 838440"/>
              <a:gd name="textAreaTop" fmla="*/ 40680 h 1057320"/>
              <a:gd name="textAreaBottom" fmla="*/ 1016640 h 1057320"/>
            </a:gdLst>
            <a:ahLst/>
            <a:rect l="textAreaLeft" t="textAreaTop" r="textAreaRight" b="textAreaBottom"/>
            <a:pathLst>
              <a:path w="21600" h="27236">
                <a:moveTo>
                  <a:pt x="3600" y="0"/>
                </a:moveTo>
                <a:arcTo wR="3600" hR="3600" stAng="16200000" swAng="-5400000"/>
                <a:lnTo>
                  <a:pt x="0" y="23636"/>
                </a:lnTo>
                <a:arcTo wR="3600" hR="3600" stAng="10800000" swAng="-5400000"/>
                <a:lnTo>
                  <a:pt x="18000" y="2723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Un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ar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http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dy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xerces.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28321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43200" y="990720"/>
            <a:ext cx="190512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6920" y="14479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act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Your 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under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66880" y="3355920"/>
            <a:ext cx="3124440" cy="144144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320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366084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534348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Times New Roman"/>
              </a:rPr>
              <a:t>Figure 1 : Classpath configu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280" y="51912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1912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557208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572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4124160"/>
            <a:ext cx="838080" cy="600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r j2ee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366084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14479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httpclien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5920" y="189540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738520" y="144792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spectjrt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85920" y="2349360"/>
            <a:ext cx="838080" cy="381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738520" y="1916280"/>
            <a:ext cx="190476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mmons logging.j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90920" y="76320"/>
            <a:ext cx="3276360" cy="3733560"/>
          </a:xfrm>
          <a:custGeom>
            <a:avLst/>
            <a:gdLst>
              <a:gd name="textAreaLeft" fmla="*/ 159840 w 3276360"/>
              <a:gd name="textAreaRight" fmla="*/ 3116520 w 3276360"/>
              <a:gd name="textAreaTop" fmla="*/ 159840 h 3733560"/>
              <a:gd name="textAreaBottom" fmla="*/ 3573720 h 3733560"/>
            </a:gdLst>
            <a:ahLst/>
            <a:rect l="textAreaLeft" t="textAreaTop" r="textAreaRight" b="textAreaBottom"/>
            <a:pathLst>
              <a:path w="21600" h="24614">
                <a:moveTo>
                  <a:pt x="3600" y="0"/>
                </a:moveTo>
                <a:arcTo wR="3600" hR="3600" stAng="16200000" swAng="-5400000"/>
                <a:lnTo>
                  <a:pt x="0" y="21014"/>
                </a:lnTo>
                <a:arcTo wR="3600" hR="3600" stAng="10800000" swAng="-5400000"/>
                <a:lnTo>
                  <a:pt x="18000" y="2461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ainer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320" y="76320"/>
            <a:ext cx="2209680" cy="3733560"/>
          </a:xfrm>
          <a:custGeom>
            <a:avLst/>
            <a:gdLst>
              <a:gd name="textAreaLeft" fmla="*/ 107640 w 2209680"/>
              <a:gd name="textAreaRight" fmla="*/ 2102040 w 2209680"/>
              <a:gd name="textAreaTop" fmla="*/ 107640 h 3733560"/>
              <a:gd name="textAreaBottom" fmla="*/ 3625920 h 3733560"/>
            </a:gdLst>
            <a:ahLst/>
            <a:rect l="textAreaLeft" t="textAreaTop" r="textAreaRight" b="textAreaBottom"/>
            <a:pathLst>
              <a:path w="21600" h="36494">
                <a:moveTo>
                  <a:pt x="3600" y="0"/>
                </a:moveTo>
                <a:arcTo wR="3600" hR="3600" stAng="16200000" swAng="-5400000"/>
                <a:lnTo>
                  <a:pt x="0" y="32894"/>
                </a:lnTo>
                <a:arcTo wR="3600" hR="3600" stAng="10800000" swAng="-5400000"/>
                <a:lnTo>
                  <a:pt x="18000" y="36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cece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ent J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060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 to 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UnitT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u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457200"/>
            <a:ext cx="990720" cy="1905120"/>
          </a:xfrm>
          <a:custGeom>
            <a:avLst/>
            <a:gdLst>
              <a:gd name="textAreaLeft" fmla="*/ 48240 w 990720"/>
              <a:gd name="textAreaRight" fmla="*/ 942480 w 99072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29">
                <a:moveTo>
                  <a:pt x="3600" y="0"/>
                </a:moveTo>
                <a:arcTo wR="3600" hR="3600" stAng="16200000" swAng="-5400000"/>
                <a:lnTo>
                  <a:pt x="0" y="37929"/>
                </a:lnTo>
                <a:arcTo wR="3600" hR="3600" stAng="10800000" swAng="-5400000"/>
                <a:lnTo>
                  <a:pt x="18000" y="415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733920" y="457200"/>
            <a:ext cx="990360" cy="1905120"/>
          </a:xfrm>
          <a:custGeom>
            <a:avLst/>
            <a:gdLst>
              <a:gd name="textAreaLeft" fmla="*/ 48240 w 990360"/>
              <a:gd name="textAreaRight" fmla="*/ 942120 w 990360"/>
              <a:gd name="textAreaTop" fmla="*/ 48240 h 1905120"/>
              <a:gd name="textAreaBottom" fmla="*/ 1856880 h 1905120"/>
            </a:gdLst>
            <a:ahLst/>
            <a:rect l="textAreaLeft" t="textAreaTop" r="textAreaRight" b="textAreaBottom"/>
            <a:pathLst>
              <a:path w="21600" h="41544">
                <a:moveTo>
                  <a:pt x="3600" y="0"/>
                </a:moveTo>
                <a:arcTo wR="3600" hR="3600" stAng="16200000" swAng="-5400000"/>
                <a:lnTo>
                  <a:pt x="0" y="37944"/>
                </a:lnTo>
                <a:arcTo wR="3600" hR="3600" stAng="10800000" swAng="-5400000"/>
                <a:lnTo>
                  <a:pt x="18000" y="415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2438280"/>
            <a:ext cx="205740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8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2438280"/>
            <a:ext cx="3124440" cy="1219320"/>
          </a:xfrm>
          <a:prstGeom prst="roundRect">
            <a:avLst>
              <a:gd name="adj" fmla="val 16667"/>
            </a:avLst>
          </a:prstGeom>
          <a:solidFill>
            <a:srgbClr val="c8c8c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26420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gure 2 : Configuration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280" y="4111560"/>
            <a:ext cx="83844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41115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nd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280" y="4492800"/>
            <a:ext cx="83844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449280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p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99072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743200"/>
            <a:ext cx="19051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743200" y="990720"/>
            <a:ext cx="83808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/>
              </a:gs>
              <a:gs pos="100000">
                <a:srgbClr val="fec79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eb.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743200" y="2743200"/>
            <a:ext cx="297180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g4j.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25560" y="1463760"/>
            <a:ext cx="838440" cy="380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c7fec7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act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2-07-22T15:39:09Z</dcterms:modified>
  <cp:revision>45</cp:revision>
  <dc:subject/>
  <dc:title>Présentation PowerPoint</dc:title>
</cp:coreProperties>
</file>