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CFA4-5A70-4C5A-ADA7-6E1087D03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42E1-73F0-4A4D-9DF6-F339B0A85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CA44-25AA-49C3-9E47-819DFAEC5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3644-F82E-4DC3-B515-3B063FC49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5673-1926-4376-AC45-4A7EDE8E0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9984-7EA3-4C5D-9385-6AF65853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712B-E555-4CA1-BD0F-03E44A9C1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1BD5-F2E2-48DF-87AA-440E5AE86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E15C-3EAA-4C55-A654-A03F26853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5E17-0507-4238-A795-FB732170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AFF3-E729-43DB-A178-09A7DF57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475E-4034-4C55-A848-EFBC5E7B4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52563-4FA8-49E7-8F72-87E035A2FF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4114800"/>
            <a:ext cx="2666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457200"/>
            <a:ext cx="26668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6094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6094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12952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l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12952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agli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7632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1219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86200" y="457200"/>
            <a:ext cx="26668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7632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6094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J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12952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1219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2514600"/>
            <a:ext cx="26668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048120" y="1981080"/>
            <a:ext cx="9144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8600" y="3352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26668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S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33526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S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7400" y="26668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Velo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14600" y="3657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343400" y="2590920"/>
            <a:ext cx="457200" cy="30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0600" y="259092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vailable in 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43400" y="3200400"/>
            <a:ext cx="457200" cy="3049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0600" y="304812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Work in progress. Partly available in Cactus or soon avail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343400" y="3809880"/>
            <a:ext cx="457200" cy="30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00600" y="380988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urrently out of Cactus 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4T06:50:50Z</dcterms:created>
  <dc:creator>Vincent Massol</dc:creator>
  <dc:description/>
  <dc:language>en-US</dc:language>
  <cp:lastModifiedBy>tahchiev</cp:lastModifiedBy>
  <dcterms:modified xsi:type="dcterms:W3CDTF">2008-02-01T13:22:30Z</dcterms:modified>
  <cp:revision>12</cp:revision>
  <dc:subject/>
  <dc:title>Présentation PowerPoint</dc:title>
</cp:coreProperties>
</file>