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7A36-C9C4-4BE8-AFE0-7D80DD0BB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FA46-DF4C-44A5-908A-AF73C818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E5C0-164D-4CED-870C-A61D693AF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11BE-C876-40B6-8E79-580C0DED9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EA59-1EC5-4605-8271-637A63C2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E303-C833-4B90-B2C7-6278C340A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D3F8-9ED4-4514-B62E-CA4240A6D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D8D2-115B-40B4-8CE3-B11CB34D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E347-C84D-4C9A-BFA5-6A191CED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8181-48F9-4ADB-9049-27D3F01F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F867-E367-4F6B-8DE3-58818CF16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6826-A85D-4C73-B83C-F330BBDE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571E-9DBD-4142-9DE1-D1D1C5248F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3:23Z</dcterms:modified>
  <cp:revision>6</cp:revision>
  <dc:subject/>
  <dc:title>Présentation PowerPoint</dc:title>
</cp:coreProperties>
</file>