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6D59-D3DF-463C-87E5-464B6865E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B86-1EA7-4E48-B52D-D6493E25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40F2-1A09-4F7D-B85F-8902A3EC7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D1AE-B340-4EE2-AF39-E58275458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54A2-CEBC-4828-BACF-0E6BFC7F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379E-80C1-44C6-ACDA-305B1488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8160-D6D6-467A-B046-A394BD88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93FE-4276-4578-B945-A9F09160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967-A3D3-4F30-B5CB-3FFFD042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1809-D949-44AC-A46B-A1F8997F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AE7D-21E8-44D7-AC67-69EB58F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5E65-C25B-4FC2-BB22-FC811F13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08B5-D8E4-4A76-8396-F223EACFC6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95640" y="1052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2120" y="2133720"/>
            <a:ext cx="100836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280" y="2916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5120" y="13381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24360" y="328464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3-22T23:56:38Z</dcterms:modified>
  <cp:revision>53</cp:revision>
  <dc:subject/>
  <dc:title>Présentation PowerPoint</dc:title>
</cp:coreProperties>
</file>