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746-ABBC-4B36-908D-DEA19B62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AFDA-2421-4664-9391-8125BC0C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8DB08-173F-435A-B4D6-771DF3254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004-FE34-4864-A7C5-97FBC068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27BC-7CC6-4782-B701-17CF13328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509-09F4-4844-9E45-FA18DF65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FCA-4CFB-4261-9FAE-BC8B889C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7981-FF07-4CF9-8AE5-C17F30AF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850C-A241-4AC1-A976-46B1444F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E50-E2B6-431D-A394-1D8DE199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CB6C-27C6-4338-8CF9-51905A5D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FC22-3A9C-4356-8E60-3BC9EF915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7E5B-9DD2-4AB5-98E6-C81BE63C31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YY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3920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5744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55736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4920" y="260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920" y="17431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4-04-21T19:22:13Z</dcterms:modified>
  <cp:revision>7</cp:revision>
  <dc:subject/>
  <dc:title>Présentation PowerPoint</dc:title>
</cp:coreProperties>
</file>