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8C7-4FB2-43F4-A1A5-1323729B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DB0F-E9DB-4E0C-B901-4E36D7AA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E5D0-8127-4DA2-B3CB-1FDE66E8F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CE7D-A0FD-4A4B-90A8-E436B5A2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4AD5-627F-4663-83AB-5E5CD6E66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195C-643A-430E-82A5-5087AC033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B670-00FB-47A1-B7C3-9ACD1157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062-9535-41FD-8BE4-A7F21503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F32-4A49-41F2-A6E1-329C48D3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E0EF-B725-412D-837B-8A6EC190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722A-3B9E-438A-8E73-294729CF4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1AB-9607-42A8-B734-BAF2377B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3B03-4807-4299-B6B6-A41C40CDBF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4:13Z</dcterms:modified>
  <cp:revision>5</cp:revision>
  <dc:subject/>
  <dc:title>Présentation PowerPoint</dc:title>
</cp:coreProperties>
</file>