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E3E9-53B6-46F7-9EEC-B100A83A4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B24D-64EE-4AB1-8C8C-D321BC3B7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CEBC-822F-4508-BA6A-FA098F53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1C34-B7C4-497C-A333-F01E094F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2FE-FB08-4E54-9564-B63695B6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1943-7C0A-4AFF-ACB5-490881A6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D1AF-3E36-46B5-8C76-DE09158DF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5845-989C-4C02-95EB-F0DD8B4E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2F21-8CA8-40A5-A3D3-55F8E586B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DA3D-19C8-47F1-95C1-D753C7B95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1957-F6F3-4AE2-9298-5D8A22B9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47DD-3BD5-4305-999A-706CF6B94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3FCE-6701-4AB5-9EEB-9F5F7D227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388620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7628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227640" y="62064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227640" y="1413000"/>
            <a:ext cx="11430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0" y="119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348000" y="1773360"/>
            <a:ext cx="2087640" cy="13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43520" y="263700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00720" y="2637000"/>
            <a:ext cx="15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43520" y="324648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00720" y="309420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Partly available in Cactus or soon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843520" y="385596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385596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urrently 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620640"/>
            <a:ext cx="936360" cy="1295640"/>
          </a:xfrm>
          <a:custGeom>
            <a:avLst/>
            <a:gdLst>
              <a:gd name="textAreaLeft" fmla="*/ 45720 w 936360"/>
              <a:gd name="textAreaRight" fmla="*/ 890640 w 936360"/>
              <a:gd name="textAreaTop" fmla="*/ 45720 h 1295640"/>
              <a:gd name="textAreaBottom" fmla="*/ 1249920 h 1295640"/>
            </a:gdLst>
            <a:ahLst/>
            <a:rect l="textAreaLeft" t="textAreaTop" r="textAreaRight" b="textAreaBottom"/>
            <a:pathLst>
              <a:path w="21600" h="29885">
                <a:moveTo>
                  <a:pt x="3600" y="0"/>
                </a:moveTo>
                <a:arcTo wR="3600" hR="3600" stAng="16200000" swAng="-5400000"/>
                <a:lnTo>
                  <a:pt x="0" y="26285"/>
                </a:lnTo>
                <a:arcTo wR="3600" hR="3600" stAng="10800000" swAng="-5400000"/>
                <a:lnTo>
                  <a:pt x="18000" y="298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tahchiev</cp:lastModifiedBy>
  <dcterms:modified xsi:type="dcterms:W3CDTF">2008-02-01T14:46:25Z</dcterms:modified>
  <cp:revision>14</cp:revision>
  <dc:subject/>
  <dc:title>Présentation PowerPoint</dc:title>
</cp:coreProperties>
</file>