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5088-94A9-468F-9D28-6A272780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4DEE-3F14-486C-AD13-4215D8534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20FA-20E1-482E-A64F-D8066919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E7FF-064D-4BDF-8D59-66F015EC0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553E-9043-4D37-9B3E-F8A1E4C10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E3F4-EF51-466D-B491-5FD17635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35A-53CA-4AA8-BE27-0D1DA148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631-1A98-4882-A2EC-9CC7AE635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8685-C2B0-4181-ACB4-A76E0B59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C91B-6DAC-4354-A2FB-747AC9E1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5486-F682-4798-A7DC-523052B9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BF78-DA8F-4F89-8C4E-5ED6BDAA9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65889-22DE-4DD7-99FF-161007CB0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3:50Z</dcterms:modified>
  <cp:revision>6</cp:revision>
  <dc:subject/>
  <dc:title>Présentation PowerPoint</dc:title>
</cp:coreProperties>
</file>