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E962-99BE-4D61-90C7-A6E8ED956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DAE2-0C9E-4223-A0DE-1F5B3D52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7ED0-D803-4F84-BBFA-67BDE4823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9842-0822-4BC2-A7F3-28409E37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5A54-D163-454F-AF8F-B2761D3E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67CE-2A9C-4204-869C-E9EA2C34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45C-06A5-411E-82B4-3A37BE1F6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B93-BC76-43E1-9F94-94A03EE9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B516-7869-45CA-B73E-E67C9D21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4CCF-D32B-4E63-8A28-6E566E75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44E-F0A6-48AD-A01D-9AFD0451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3C49-118E-42A0-99D9-5F8B11F5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DE00-2F25-4360-BBA2-0FCC22780E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060640"/>
            <a:ext cx="1151280" cy="93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36600" y="1243080"/>
            <a:ext cx="3216240" cy="25858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25892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89200" y="1368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781280" y="2889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n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05200" y="28843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19640" y="2133720"/>
            <a:ext cx="1008000" cy="79200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t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249228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Unit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4040" y="1379520"/>
            <a:ext cx="1008000" cy="792360"/>
          </a:xfrm>
          <a:prstGeom prst="ellipse">
            <a:avLst/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av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u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98100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en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27640" y="1700280"/>
            <a:ext cx="1008000" cy="7920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truts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0160" y="419040"/>
            <a:ext cx="5298840" cy="42372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2565360"/>
            <a:ext cx="1008000" cy="79236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773360"/>
            <a:ext cx="1008000" cy="792000"/>
          </a:xfrm>
          <a:prstGeom prst="ellipse">
            <a:avLst/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J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5013360"/>
            <a:ext cx="51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actus Eco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869080" y="3365640"/>
            <a:ext cx="93636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869080" y="193500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77080" y="193500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77080" y="3294000"/>
            <a:ext cx="187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xternal tools and frameworks integrated with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69080" y="121428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77080" y="121428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869080" y="2655720"/>
            <a:ext cx="93636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a9ac1"/>
              </a:gs>
              <a:gs pos="100000">
                <a:srgbClr val="ccccff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77080" y="265572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vided with the Cactus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995640" y="3213000"/>
            <a:ext cx="1008000" cy="79236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JSF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tahchiev</cp:lastModifiedBy>
  <dcterms:modified xsi:type="dcterms:W3CDTF">2008-02-02T15:24:28Z</dcterms:modified>
  <cp:revision>55</cp:revision>
  <dc:subject/>
  <dc:title>Présentation PowerPoint</dc:title>
</cp:coreProperties>
</file>