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AD67-7315-41CE-9CAD-4F9FAD93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F665-D556-4C0E-8BE7-AACE85BA7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D5BB-A356-4CB7-81CF-82DA69074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D8C-73D4-4166-9A02-F21F5C9D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083F-6CC6-4A50-8EE9-BAFCF840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A0A-5115-4818-846D-1A1D2ADFE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D0C1-9892-4DC6-ABF3-C43B5B9C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447B-F766-4671-873C-9DA4DE17F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90A-238D-45E7-B988-316F73649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D2F-C315-4866-81AC-DB581E4CA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DA3-2AED-4AD5-B84F-3EFE9A96D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FFFE-66DD-4A5F-B638-1A2417A3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E2F0-2F16-4AA5-B93B-16EA23168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3372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57200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505320" y="11430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590920" y="76320"/>
            <a:ext cx="320040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2209680" cy="2057400"/>
          </a:xfrm>
          <a:prstGeom prst="roundRect">
            <a:avLst>
              <a:gd name="adj" fmla="val 16667"/>
            </a:avLst>
          </a:pr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533520"/>
            <a:ext cx="914400" cy="1447560"/>
          </a:xfrm>
          <a:custGeom>
            <a:avLst/>
            <a:gdLst>
              <a:gd name="textAreaLeft" fmla="*/ 44640 w 914400"/>
              <a:gd name="textAreaRight" fmla="*/ 869760 w 914400"/>
              <a:gd name="textAreaTop" fmla="*/ 44640 h 1447560"/>
              <a:gd name="textAreaBottom" fmla="*/ 1402920 h 1447560"/>
            </a:gdLst>
            <a:ahLst/>
            <a:rect l="textAreaLeft" t="textAreaTop" r="textAreaRight" b="textAreaBottom"/>
            <a:pathLst>
              <a:path w="21600" h="34189">
                <a:moveTo>
                  <a:pt x="3600" y="0"/>
                </a:moveTo>
                <a:arcTo wR="3600" hR="3600" stAng="16200000" swAng="-5400000"/>
                <a:lnTo>
                  <a:pt x="0" y="30589"/>
                </a:lnTo>
                <a:arcTo wR="3600" hR="3600" stAng="10800000" swAng="-5400000"/>
                <a:lnTo>
                  <a:pt x="18000" y="341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2a2a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522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552d"/>
              </a:gs>
              <a:gs pos="100000">
                <a:srgbClr val="fec4b7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66880" y="533520"/>
            <a:ext cx="990720" cy="144756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57">
                <a:moveTo>
                  <a:pt x="3600" y="0"/>
                </a:moveTo>
                <a:arcTo wR="3600" hR="3600" stAng="16200000" swAng="-5400000"/>
                <a:lnTo>
                  <a:pt x="0" y="27957"/>
                </a:lnTo>
                <a:arcTo wR="3600" hR="3600" stAng="10800000" swAng="-5400000"/>
                <a:lnTo>
                  <a:pt x="18000" y="315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533520"/>
            <a:ext cx="990360" cy="144756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447560"/>
              <a:gd name="textAreaBottom" fmla="*/ 1399320 h 1447560"/>
            </a:gdLst>
            <a:ahLst/>
            <a:rect l="textAreaLeft" t="textAreaTop" r="textAreaRight" b="textAreaBottom"/>
            <a:pathLst>
              <a:path w="21600" h="31568">
                <a:moveTo>
                  <a:pt x="3600" y="0"/>
                </a:moveTo>
                <a:arcTo wR="3600" hR="3600" stAng="16200000" swAng="-5400000"/>
                <a:lnTo>
                  <a:pt x="0" y="27968"/>
                </a:lnTo>
                <a:arcTo wR="3600" hR="3600" stAng="10800000" swAng="-5400000"/>
                <a:lnTo>
                  <a:pt x="18000" y="3156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5b5b5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133000" y="1143000"/>
            <a:ext cx="685800" cy="228600"/>
          </a:xfrm>
          <a:prstGeom prst="rightArrow">
            <a:avLst>
              <a:gd name="adj1" fmla="val 58333"/>
              <a:gd name="adj2" fmla="val 70833"/>
            </a:avLst>
          </a:prstGeom>
          <a:solidFill>
            <a:srgbClr val="ff55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8-03T21:19:15Z</dcterms:modified>
  <cp:revision>24</cp:revision>
  <dc:subject/>
  <dc:title>Présentation PowerPoint</dc:title>
</cp:coreProperties>
</file>