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0B3-4C23-48DC-BDA8-E60175A4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ECD-0A3F-43D9-A494-F686D717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3F1-0342-4D3D-8045-C42E938E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B3C-B990-4DEA-9608-871458C6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869-3D45-4B1E-8B1C-F2D7890D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782-14A3-41AB-BBD4-9D0FFA5B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5E1-F95C-414A-8B61-77E768E2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EFB-652D-4F42-ADD9-CD856F99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CD5-1DA0-4DBF-B9B8-D4CD3923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CDE-1B74-433A-98BD-77DB6F79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AD5-C09C-4052-A028-1F2714C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3F9-D1F7-4282-8A94-580D4B2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7B8C-2466-4A6F-920E-7D69A8492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3:22:30Z</dcterms:modified>
  <cp:revision>12</cp:revision>
  <dc:subject/>
  <dc:title>Présentation PowerPoint</dc:title>
</cp:coreProperties>
</file>