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360-64F4-46AB-B5D4-BDEDC960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7BFE-EE45-4FB4-A678-677A3A44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5C9C-8801-4771-8582-FBD10E35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60A-4578-4943-850B-29EFD68E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C29-7DBB-49F9-A955-1700030F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F5A-B354-4DCD-92AC-2612F5F3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006C-C2EB-444B-9B54-0D321195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973-6F14-4AF9-B17A-0113C071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FC55-6F3D-44F6-A3CD-BE38ACC7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737-270F-44EB-8977-C49AA819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1F2B-7172-4C68-965F-B2A7C867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C37-D4D3-407D-A5E3-CDCB95EA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1422-CA1C-4532-903C-9C0C3132F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23Z</dcterms:modified>
  <cp:revision>6</cp:revision>
  <dc:subject/>
  <dc:title>Présentation PowerPoint</dc:title>
</cp:coreProperties>
</file>