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3E0F-56CF-4C15-8CEB-16225274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5047-78E8-40BF-A66B-37450894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1CDF-A6F6-495B-B304-001A2A29E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7D6C-788B-44B5-8926-A8A9407CF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9053-206D-431F-A190-D952C9C9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E1A0-1548-4FB7-ACF6-90177DFF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5F31-3437-4302-AF62-D1BA591F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AB81-1915-40A9-B8B6-8A7DD5AF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7990-5A1A-46DE-9F23-34BA1C88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DC5C-244F-4107-A9D5-3E90A043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24A7-AB03-49DB-9A9A-6D2B6456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E08D-36FB-40D1-8F82-779A8494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3D36-A227-4C08-BAC0-7C5B3E2D6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3:50Z</dcterms:modified>
  <cp:revision>6</cp:revision>
  <dc:subject/>
  <dc:title>Présentation PowerPoint</dc:title>
</cp:coreProperties>
</file>