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57C06-D0EA-4901-9A16-ABB0941FC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A5305-41F8-4ECB-B14D-9E4D1D1D9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C71E8-0DB3-4150-B968-9B5023AAB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4D255-A25D-4D0A-9D64-46F27DA05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1D451-D172-4FD0-ADB1-7064EDF02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5AF31-DFDA-45CA-A997-9B301306D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66EA4-63DD-4BFF-BC5C-B19D1E6C0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F7611-6BA9-4CB0-B405-EF06DD1C1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DDAED-C738-4BFF-8D19-4AC15DC38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88ED8-1F6D-4317-923B-098AF45CE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D5E40-6744-4277-90AC-FFF91F171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2A4C3-A91D-454B-B6C0-0A82BC0D6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3789D-FE73-4C4A-AF6E-E27FB65FDA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68360" y="2060640"/>
            <a:ext cx="1151280" cy="9367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236600" y="1243080"/>
            <a:ext cx="3216240" cy="258588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340000" y="2133720"/>
            <a:ext cx="1008000" cy="792000"/>
          </a:xfrm>
          <a:prstGeom prst="ellipse">
            <a:avLst/>
          </a:prstGeom>
          <a:gradFill rotWithShape="0">
            <a:gsLst>
              <a:gs pos="0">
                <a:srgbClr val="cc66ff"/>
              </a:gs>
              <a:gs pos="100000">
                <a:srgbClr val="e7bb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rame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258920" y="2133720"/>
            <a:ext cx="1008000" cy="792000"/>
          </a:xfrm>
          <a:prstGeom prst="ellipse">
            <a:avLst/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teg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789200" y="1368360"/>
            <a:ext cx="1008000" cy="792360"/>
          </a:xfrm>
          <a:prstGeom prst="ellipse">
            <a:avLst/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clip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lu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781280" y="2889360"/>
            <a:ext cx="1008000" cy="792000"/>
          </a:xfrm>
          <a:prstGeom prst="ellipse">
            <a:avLst/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anu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onfigu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905200" y="2884320"/>
            <a:ext cx="1008000" cy="792360"/>
          </a:xfrm>
          <a:prstGeom prst="ellipse">
            <a:avLst/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teg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419640" y="2133720"/>
            <a:ext cx="1008000" cy="792000"/>
          </a:xfrm>
          <a:prstGeom prst="ellipse">
            <a:avLst/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Jet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teg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427640" y="2565360"/>
            <a:ext cx="1008000" cy="792360"/>
          </a:xfrm>
          <a:prstGeom prst="ellipse">
            <a:avLst/>
          </a:prstGeom>
          <a:gradFill rotWithShape="0">
            <a:gsLst>
              <a:gs pos="0">
                <a:srgbClr val="ff9900"/>
              </a:gs>
              <a:gs pos="100000">
                <a:srgbClr val="fee5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JUnit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un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894040" y="1379520"/>
            <a:ext cx="1008000" cy="792360"/>
          </a:xfrm>
          <a:prstGeom prst="ellipse">
            <a:avLst/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av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lu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995640" y="1052640"/>
            <a:ext cx="1008000" cy="792000"/>
          </a:xfrm>
          <a:prstGeom prst="ellipse">
            <a:avLst/>
          </a:prstGeom>
          <a:gradFill rotWithShape="0">
            <a:gsLst>
              <a:gs pos="0">
                <a:srgbClr val="ff9900"/>
              </a:gs>
              <a:gs pos="100000">
                <a:srgbClr val="fee5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Jen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427640" y="1773360"/>
            <a:ext cx="1008000" cy="792000"/>
          </a:xfrm>
          <a:prstGeom prst="ellipse">
            <a:avLst/>
          </a:prstGeom>
          <a:gradFill rotWithShape="0">
            <a:gsLst>
              <a:gs pos="0">
                <a:srgbClr val="ff9900"/>
              </a:gs>
              <a:gs pos="100000">
                <a:srgbClr val="fee5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trutsTest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00160" y="419040"/>
            <a:ext cx="5298840" cy="42372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22120" y="2133720"/>
            <a:ext cx="1008360" cy="792000"/>
          </a:xfrm>
          <a:prstGeom prst="ellipse">
            <a:avLst/>
          </a:prstGeom>
          <a:gradFill rotWithShape="0">
            <a:gsLst>
              <a:gs pos="0">
                <a:srgbClr val="9a9ac1"/>
              </a:gs>
              <a:gs pos="100000">
                <a:srgbClr val="ccccff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ervl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a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280" y="2916360"/>
            <a:ext cx="1008000" cy="792000"/>
          </a:xfrm>
          <a:prstGeom prst="ellipse">
            <a:avLst/>
          </a:prstGeom>
          <a:gradFill rotWithShape="0">
            <a:gsLst>
              <a:gs pos="0">
                <a:srgbClr val="9a9ac1"/>
              </a:gs>
              <a:gs pos="100000">
                <a:srgbClr val="ccccff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Jet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a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5120" y="1338120"/>
            <a:ext cx="1008000" cy="792360"/>
          </a:xfrm>
          <a:prstGeom prst="ellipse">
            <a:avLst/>
          </a:prstGeom>
          <a:gradFill rotWithShape="0">
            <a:gsLst>
              <a:gs pos="0">
                <a:srgbClr val="9a9ac1"/>
              </a:gs>
              <a:gs pos="100000">
                <a:srgbClr val="ccccff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J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a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50920" y="5013360"/>
            <a:ext cx="51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Cactus Eco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869080" y="3365640"/>
            <a:ext cx="936360" cy="504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100000">
                <a:srgbClr val="fee5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869080" y="1935000"/>
            <a:ext cx="936360" cy="505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77080" y="1935000"/>
            <a:ext cx="1727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rovided with the Cactus distrib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877080" y="3294000"/>
            <a:ext cx="187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xternal tools and frameworks integrated with 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869080" y="1214280"/>
            <a:ext cx="936360" cy="505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66ff"/>
              </a:gs>
              <a:gs pos="100000">
                <a:srgbClr val="e7bb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877080" y="1214280"/>
            <a:ext cx="1727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rovided with the Cactus distrib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869080" y="2655720"/>
            <a:ext cx="936360" cy="505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a9ac1"/>
              </a:gs>
              <a:gs pos="100000">
                <a:srgbClr val="ccccff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877080" y="2655720"/>
            <a:ext cx="1727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rovided with the Cactus distrib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924360" y="3284640"/>
            <a:ext cx="1008000" cy="792000"/>
          </a:xfrm>
          <a:prstGeom prst="ellipse">
            <a:avLst/>
          </a:prstGeom>
          <a:gradFill rotWithShape="0">
            <a:gsLst>
              <a:gs pos="0">
                <a:srgbClr val="ff9900"/>
              </a:gs>
              <a:gs pos="100000">
                <a:srgbClr val="fee5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JSF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15T16:11:12Z</dcterms:created>
  <dc:creator>Vincent Massol</dc:creator>
  <dc:description/>
  <dc:language>en-US</dc:language>
  <cp:lastModifiedBy>tahchiev</cp:lastModifiedBy>
  <dcterms:modified xsi:type="dcterms:W3CDTF">2008-03-22T23:56:38Z</dcterms:modified>
  <cp:revision>53</cp:revision>
  <dc:subject/>
  <dc:title>Présentation PowerPoint</dc:title>
</cp:coreProperties>
</file>