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2745-AE20-47B0-A57C-66B7AAB6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2AEB-774C-442A-B2C8-DE2EA4A1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DB8A-7124-466E-AFD4-CF3B63D2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4CBB-A65B-4E34-8A11-CC55E2B7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DF6B-861C-45CD-81D5-546B8640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C1D0-FC34-4E0E-ACE9-F8314DA0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383E-A80A-4FAF-A3F9-EEC10F14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DA3F-CD7A-4058-8E34-9C06BC51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A91C-8AC7-4FA1-8808-7EE010B9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C45C-D367-424C-9EF2-DEF2CC55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9C0F-F8E8-4D2D-90C0-34A44CD7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4EB6-9D75-4EAC-BFEE-F3363DD4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D1B0-0D35-47FB-86F8-FF3A7214DE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060640"/>
            <a:ext cx="1151280" cy="93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36600" y="1243080"/>
            <a:ext cx="3216240" cy="2585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89200" y="13683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81280" y="2889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05200" y="28843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249228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i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040" y="13795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98100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170028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ts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160" y="419040"/>
            <a:ext cx="5298840" cy="423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5653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1773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501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ctus 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9080" y="336564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9080" y="193500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77080" y="193500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329400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rnal tools and frameworks integrated with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69080" y="121428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77080" y="121428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9080" y="265572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77080" y="265572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321300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SF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tahchiev</cp:lastModifiedBy>
  <dcterms:modified xsi:type="dcterms:W3CDTF">2008-02-02T15:24:28Z</dcterms:modified>
  <cp:revision>55</cp:revision>
  <dc:subject/>
  <dc:title>Présentation PowerPoint</dc:title>
</cp:coreProperties>
</file>