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6CB-04D7-44D5-AEC9-C8F3A832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B0E-AC83-4857-A2CA-F7DEB1FE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2A6-024A-4A79-BAD5-F18A3122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DE9-5918-4E42-9480-45EE4D83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3D0-ADE6-4CAF-9628-D7846B86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48B-91AB-451F-90A4-8BFD86E8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810-75AD-4576-8446-9D728B78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B1C-1393-4C7B-8162-45D70D7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BFB-C157-4C41-AC00-DFCBFB09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258-1D07-4611-8487-D69FF89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6F4-0270-4C75-875C-4D71F16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992-A9D8-45E2-B0E7-ABE0B7B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CD9A-1D0D-4659-87C8-61F60188B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3886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7628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62064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413000"/>
            <a:ext cx="1143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348000" y="1773360"/>
            <a:ext cx="2087640" cy="13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43520" y="263700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26370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43520" y="324648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3094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43520" y="385596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85596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620640"/>
            <a:ext cx="936360" cy="129564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295640"/>
              <a:gd name="textAreaBottom" fmla="*/ 1249920 h 1295640"/>
            </a:gdLst>
            <a:ahLst/>
            <a:rect l="textAreaLeft" t="textAreaTop" r="textAreaRight" b="textAreaBottom"/>
            <a:pathLst>
              <a:path w="21600" h="29885">
                <a:moveTo>
                  <a:pt x="3600" y="0"/>
                </a:moveTo>
                <a:arcTo wR="3600" hR="3600" stAng="16200000" swAng="-5400000"/>
                <a:lnTo>
                  <a:pt x="0" y="26285"/>
                </a:lnTo>
                <a:arcTo wR="3600" hR="3600" stAng="10800000" swAng="-5400000"/>
                <a:lnTo>
                  <a:pt x="18000" y="29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4:46:25Z</dcterms:modified>
  <cp:revision>14</cp:revision>
  <dc:subject/>
  <dc:title>Présentation PowerPoint</dc:title>
</cp:coreProperties>
</file>