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BFFD-F4DC-475E-9ED4-E9FC6D02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1279-1DA2-44ED-91F3-8216DA69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B847-D195-4767-9264-6E0C0DA6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146A-14A7-40A0-B921-BB89E54FB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F84-3E6E-44E1-8318-2954289D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6109-5542-4F21-A112-78D35F89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A6CF-5C64-4A73-BA28-52BB1FE9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47C7-1958-47AE-946B-641B935F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9414-FF09-4658-8AB9-6AE83636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EE9F-DCC7-47F6-941D-C2B4D308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D398-B7A2-49E1-8FC5-79986C11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C6E6-2E9B-403D-AE48-FFED5679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1DA5-7ED8-4299-AFC9-38143693A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76360" cy="479268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4792680"/>
              <a:gd name="textAreaBottom" fmla="*/ 4632840 h 4792680"/>
            </a:gdLst>
            <a:ahLst/>
            <a:rect l="textAreaLeft" t="textAreaTop" r="textAreaRight" b="textAreaBottom"/>
            <a:pathLst>
              <a:path w="21600" h="31596">
                <a:moveTo>
                  <a:pt x="3600" y="0"/>
                </a:moveTo>
                <a:arcTo wR="3600" hR="3600" stAng="16200000" swAng="-5400000"/>
                <a:lnTo>
                  <a:pt x="0" y="27996"/>
                </a:lnTo>
                <a:arcTo wR="3600" hR="3600" stAng="10800000" swAng="-5400000"/>
                <a:lnTo>
                  <a:pt x="18000" y="31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551340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5513400"/>
              <a:gd name="textAreaBottom" fmla="*/ 5405760 h 5513400"/>
            </a:gdLst>
            <a:ahLst/>
            <a:rect l="textAreaLeft" t="textAreaTop" r="textAreaRight" b="textAreaBottom"/>
            <a:pathLst>
              <a:path w="21600" h="53889">
                <a:moveTo>
                  <a:pt x="3600" y="0"/>
                </a:moveTo>
                <a:arcTo wR="3600" hR="3600" stAng="16200000" swAng="-5400000"/>
                <a:lnTo>
                  <a:pt x="0" y="50289"/>
                </a:lnTo>
                <a:arcTo wR="3600" hR="3600" stAng="10800000" swAng="-5400000"/>
                <a:lnTo>
                  <a:pt x="18000" y="538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362400"/>
            <a:ext cx="2057400" cy="22273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227320"/>
              <a:gd name="textAreaBottom" fmla="*/ 2126880 h 2227320"/>
            </a:gdLst>
            <a:ahLst/>
            <a:rect l="textAreaLeft" t="textAreaTop" r="textAreaRight" b="textAreaBottom"/>
            <a:pathLst>
              <a:path w="21600" h="23384">
                <a:moveTo>
                  <a:pt x="3600" y="0"/>
                </a:moveTo>
                <a:arcTo wR="3600" hR="3600" stAng="16200000" swAng="-5400000"/>
                <a:lnTo>
                  <a:pt x="0" y="19784"/>
                </a:lnTo>
                <a:arcTo wR="3600" hR="3600" stAng="10800000" swAng="-5400000"/>
                <a:lnTo>
                  <a:pt x="18000" y="23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669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666960"/>
            <a:ext cx="838440" cy="10573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1057320"/>
              <a:gd name="textAreaBottom" fmla="*/ 1016640 h 1057320"/>
            </a:gdLst>
            <a:ahLst/>
            <a:rect l="textAreaLeft" t="textAreaTop" r="textAreaRight" b="textAreaBottom"/>
            <a:pathLst>
              <a:path w="21600" h="27236">
                <a:moveTo>
                  <a:pt x="3600" y="0"/>
                </a:moveTo>
                <a:arcTo wR="3600" hR="3600" stAng="16200000" swAng="-5400000"/>
                <a:lnTo>
                  <a:pt x="0" y="23636"/>
                </a:lnTo>
                <a:arcTo wR="3600" hR="3600" stAng="10800000" swAng="-5400000"/>
                <a:lnTo>
                  <a:pt x="18000" y="27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http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dy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erces.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8321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990720"/>
            <a:ext cx="19051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14479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der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355920"/>
            <a:ext cx="3124440" cy="144144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66084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534348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1 : Classpath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5734080"/>
            <a:ext cx="83808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5734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165720"/>
            <a:ext cx="83808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6165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24160"/>
            <a:ext cx="83808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le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j2ee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4479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clie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920" y="189540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8520" y="144792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5920" y="23493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38520" y="191628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 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58920" y="486900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go-a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486900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go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90920" y="76320"/>
            <a:ext cx="3276360" cy="373356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3733560"/>
              <a:gd name="textAreaBottom" fmla="*/ 3573720 h 3733560"/>
            </a:gdLst>
            <a:ahLst/>
            <a:rect l="textAreaLeft" t="textAreaTop" r="textAreaRight" b="textAreaBottom"/>
            <a:pathLst>
              <a:path w="21600" h="24614">
                <a:moveTo>
                  <a:pt x="3600" y="0"/>
                </a:moveTo>
                <a:arcTo wR="3600" hR="3600" stAng="16200000" swAng="-5400000"/>
                <a:lnTo>
                  <a:pt x="0" y="21014"/>
                </a:lnTo>
                <a:arcTo wR="3600" hR="3600" stAng="10800000" swAng="-5400000"/>
                <a:lnTo>
                  <a:pt x="18000" y="24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320" y="76320"/>
            <a:ext cx="2209680" cy="37335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733560"/>
              <a:gd name="textAreaBottom" fmla="*/ 3625920 h 3733560"/>
            </a:gdLst>
            <a:ahLst/>
            <a:rect l="textAreaLeft" t="textAreaTop" r="textAreaRight" b="textAreaBottom"/>
            <a:pathLst>
              <a:path w="21600" h="36494">
                <a:moveTo>
                  <a:pt x="3600" y="0"/>
                </a:moveTo>
                <a:arcTo wR="3600" hR="3600" stAng="16200000" swAng="-5400000"/>
                <a:lnTo>
                  <a:pt x="0" y="32894"/>
                </a:lnTo>
                <a:arcTo wR="3600" hR="3600" stAng="10800000" swAng="-5400000"/>
                <a:lnTo>
                  <a:pt x="18000" y="36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243828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243828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426420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2 : Configuratio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11156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1115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44928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4492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2743200"/>
            <a:ext cx="19051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2743200"/>
            <a:ext cx="29718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25560" y="146376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3141720"/>
            <a:ext cx="190476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rgo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tahchiev</cp:lastModifiedBy>
  <dcterms:modified xsi:type="dcterms:W3CDTF">2008-02-01T12:24:13Z</dcterms:modified>
  <cp:revision>48</cp:revision>
  <dc:subject/>
  <dc:title>Présentation PowerPoint</dc:title>
</cp:coreProperties>
</file>