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C7042-8F45-497F-AAF1-1AA91293E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36887-0CD6-41D1-8638-D9298B8E4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5F56B-25F4-43CE-84CC-11361BEB6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E019C-4516-450E-98BB-ECDD007C5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23E5B-F2E6-43F5-B2CA-B5E6217FB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5A494-3DDC-44E0-A0A6-F46F60C38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AAC6F-8315-437F-88C2-6FD55F0AF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43B05-3872-494A-B72D-02975F749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D85E1-B125-4485-8482-452B30133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A6B4D-D756-47D5-AC3C-70E9BEAD4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84EB0-964B-4FE4-89C6-AFA2B5CE8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D9CB8-1E1E-43E0-9E7A-744B9174D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1F7CA-F67D-4249-8A55-964ADD9E56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838080"/>
            <a:ext cx="13716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YYYTest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057400" y="838080"/>
            <a:ext cx="13716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66ff"/>
              </a:gs>
              <a:gs pos="100000">
                <a:srgbClr val="e7bb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edir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038480" y="838080"/>
            <a:ext cx="13716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YYYTest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9907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6320" y="39204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04920" y="45720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beginXXX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6320" y="165744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04920" y="155736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XXX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600200" y="68580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9907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81280" y="68580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905120" y="22860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1981080"/>
            <a:ext cx="106704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038480" y="1752480"/>
            <a:ext cx="137160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724280" y="1447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800600" y="147636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3428640" y="1219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581280" y="129528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1447560" y="1219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191120" y="1905120"/>
            <a:ext cx="1066680" cy="761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114800" y="1828800"/>
            <a:ext cx="106668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038480" y="38088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267080" y="152280"/>
            <a:ext cx="10670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tUp(),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stXXX(),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arDown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243828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ient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05120" y="243828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600200" y="129528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04920" y="2602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begin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04920" y="174312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5T16:11:12Z</dcterms:created>
  <dc:creator>Vincent Massol</dc:creator>
  <dc:description/>
  <dc:language>en-US</dc:language>
  <cp:lastModifiedBy>Vincent Massol</cp:lastModifiedBy>
  <dcterms:modified xsi:type="dcterms:W3CDTF">2004-04-21T19:22:13Z</dcterms:modified>
  <cp:revision>7</cp:revision>
  <dc:subject/>
  <dc:title>Présentation PowerPoint</dc:title>
</cp:coreProperties>
</file>