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E8F1-C4DD-478C-B2C4-3EAEBBDC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13F4-1896-4B3B-88CC-2245C836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D7B0-7404-4DAA-8C95-42B6ACAA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9F09-3159-4E9A-98CF-81936237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F175-507E-4810-B657-B971501B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10C0-CA2D-486E-B582-CA39ED2F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DB95-2875-4F12-AB52-0DD894A5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E3DD-99DC-4766-8909-2B10E271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3B38-7AFE-4913-90F9-E268CB9C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F7F9-19FC-4F94-BC8B-A03263CD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4F1D-BDC5-4887-9936-6E942303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BDB1-A052-496C-8F20-1315B466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30E6-258D-4649-A31D-DE1D822096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2666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ag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146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48120" y="19810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8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526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590920"/>
            <a:ext cx="457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590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3200400"/>
            <a:ext cx="457200" cy="304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0481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rk in progress. Partly available in Cactus or soon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38098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38098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urrently out of Cactus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tahchiev</cp:lastModifiedBy>
  <dcterms:modified xsi:type="dcterms:W3CDTF">2008-02-01T13:22:30Z</dcterms:modified>
  <cp:revision>12</cp:revision>
  <dc:subject/>
  <dc:title>Présentation PowerPoint</dc:title>
</cp:coreProperties>
</file>