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2B0A-9274-47DA-8260-C614A69C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3F8B-D082-47E9-8B10-A9779A4B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3AE-9144-454A-B357-85A0F322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B6A-6E14-44A3-87DA-17121B0B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153-A59D-459F-A0F0-60C32F57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7B9-1BA1-4B76-82BF-D44E6F35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72D-68F7-4CED-B4C7-78E1FC08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A5D7-B1DC-40CC-96FA-48CE9FCF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C55-9244-429D-ABF9-4F78EFD5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BA1-18CF-42C3-8E32-E9E3918F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0139-AD9C-42B0-AC7A-93BC6F3A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7EC-9920-457E-9763-0C99C113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6424-2025-490F-9894-9A8A06FD1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368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81280" y="2889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5200" y="28843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2565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040" y="13795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105264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1773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365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93500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935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294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121428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1214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265572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2655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24360" y="328464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SF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tahchiev</cp:lastModifiedBy>
  <dcterms:modified xsi:type="dcterms:W3CDTF">2008-03-22T23:56:38Z</dcterms:modified>
  <cp:revision>53</cp:revision>
  <dc:subject/>
  <dc:title>Présentation PowerPoint</dc:title>
</cp:coreProperties>
</file>