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E6E-69FD-409B-A8C1-63168C4D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F66-76E0-4EAD-9544-84C72E9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18D-DDEC-4F0B-AF20-C3B8FE2C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70E-A5F2-46AF-A26C-54F33125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7A6-E4AB-4F3B-9292-D08EE04A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FBC-3DEF-4947-AA41-4A4188A0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F85-1DEC-42E6-AC21-84670C29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FF5-7736-4B32-9F91-BF158F0F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4AC-7B3E-4F4B-A82D-5A46D6F2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327-97AD-43F7-A791-9DC6D42C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4E1-5790-4A52-8413-D6DEDD49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628-0ADE-4E63-A4A5-D575C66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3F4-814C-49DC-9185-67B4F8B54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492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981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0028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213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2T15:24:28Z</dcterms:modified>
  <cp:revision>55</cp:revision>
  <dc:subject/>
  <dc:title>Présentation PowerPoint</dc:title>
</cp:coreProperties>
</file>