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A9D-CD82-4394-94F8-A1374DFB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E5D-BD0B-4016-8E9D-05679028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005-3DF2-4555-B2CC-197C132E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DB2-75E9-409C-AAD1-0F1C3506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FA7-125F-42D2-BC15-634C0E20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7D0-D214-49B5-9F91-9597816E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5C1-3934-48D1-A95B-C6C1633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C0B-334E-44BD-99EC-3437CE20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354-CA1D-4202-BC6A-8CE453A1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2E2-0DD5-48F5-A0CA-EA47863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A9C-369B-4784-8142-10C0BF7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284-BEA5-435B-93BE-FB89E1D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7636-9135-4887-AD1F-56279CDFA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3886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7628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62064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413000"/>
            <a:ext cx="1143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48000" y="1773360"/>
            <a:ext cx="2087640" cy="13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43520" y="263700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26370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43520" y="324648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3094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43520" y="385596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85596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620640"/>
            <a:ext cx="936360" cy="129564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295640"/>
              <a:gd name="textAreaBottom" fmla="*/ 1249920 h 1295640"/>
            </a:gdLst>
            <a:ahLst/>
            <a:rect l="textAreaLeft" t="textAreaTop" r="textAreaRight" b="textAreaBottom"/>
            <a:pathLst>
              <a:path w="21600" h="29885">
                <a:moveTo>
                  <a:pt x="3600" y="0"/>
                </a:moveTo>
                <a:arcTo wR="3600" hR="3600" stAng="16200000" swAng="-5400000"/>
                <a:lnTo>
                  <a:pt x="0" y="26285"/>
                </a:lnTo>
                <a:arcTo wR="3600" hR="3600" stAng="10800000" swAng="-5400000"/>
                <a:lnTo>
                  <a:pt x="18000" y="29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4:46:25Z</dcterms:modified>
  <cp:revision>14</cp:revision>
  <dc:subject/>
  <dc:title>Présentation PowerPoint</dc:title>
</cp:coreProperties>
</file>