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F9F-8478-4B76-B943-A948EFE9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8097-D345-4FDC-9C2F-B9A81A5E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7AB-2BE1-41CD-B0BA-6D0DC021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1055-4C43-40B8-9C79-8F169E0D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3F3-47E5-4E19-A612-188E1A2E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88D-998E-434C-9E01-AD22D1E1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65F0-C1FF-4AA3-A1AF-A0F14EB1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D8C9-6747-431E-B434-034041B6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7E7-8252-4211-B56B-03472004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B5F7-9997-4D81-BACD-B4116C3F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B839-DBF4-418C-AE0C-DE016CDD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5402-6285-4B66-9417-03C75C54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DEF8-F951-480C-B6D6-B7B96811E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4:13Z</dcterms:modified>
  <cp:revision>5</cp:revision>
  <dc:subject/>
  <dc:title>Présentation PowerPoint</dc:title>
</cp:coreProperties>
</file>