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76A-EBAE-4543-9BAE-1FF20D3F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353-C528-4FB5-8465-B1D69E45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4FF-9EA5-4ED8-AAF5-8D05CB99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71E-1909-408D-8798-1561BF3E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726-21BF-4E45-B96E-223BFFD3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91D-7A8E-4FE4-AAED-A69DB975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08A-D323-47BF-8205-30BF2B58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732-CA65-4C8E-9A58-D44FE824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805-09AB-43BF-A139-B2812513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5E7-015B-42EE-BB29-03087B68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DC4-62CA-45BF-8C9A-A3A47F9E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8F9-3030-4251-8A1B-00678FE3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69CA-CCEC-46D3-BCDD-FAE7FC894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551340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5513400"/>
              <a:gd name="textAreaBottom" fmla="*/ 5405760 h 5513400"/>
            </a:gdLst>
            <a:ahLst/>
            <a:rect l="textAreaLeft" t="textAreaTop" r="textAreaRight" b="textAreaBottom"/>
            <a:pathLst>
              <a:path w="21600" h="53889">
                <a:moveTo>
                  <a:pt x="3600" y="0"/>
                </a:moveTo>
                <a:arcTo wR="3600" hR="3600" stAng="16200000" swAng="-5400000"/>
                <a:lnTo>
                  <a:pt x="0" y="50289"/>
                </a:lnTo>
                <a:arcTo wR="3600" hR="3600" stAng="10800000" swAng="-5400000"/>
                <a:lnTo>
                  <a:pt x="18000" y="538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22273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227320"/>
              <a:gd name="textAreaBottom" fmla="*/ 2126880 h 2227320"/>
            </a:gdLst>
            <a:ahLst/>
            <a:rect l="textAreaLeft" t="textAreaTop" r="textAreaRight" b="textAreaBottom"/>
            <a:pathLst>
              <a:path w="21600" h="23384">
                <a:moveTo>
                  <a:pt x="3600" y="0"/>
                </a:moveTo>
                <a:arcTo wR="3600" hR="3600" stAng="16200000" swAng="-5400000"/>
                <a:lnTo>
                  <a:pt x="0" y="19784"/>
                </a:lnTo>
                <a:arcTo wR="3600" hR="3600" stAng="10800000" swAng="-5400000"/>
                <a:lnTo>
                  <a:pt x="18000" y="23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5734080"/>
            <a:ext cx="83808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5734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165720"/>
            <a:ext cx="83808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6165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4869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go-a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869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go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141720"/>
            <a:ext cx="190476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rgo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tahchiev</cp:lastModifiedBy>
  <dcterms:modified xsi:type="dcterms:W3CDTF">2008-02-01T12:24:13Z</dcterms:modified>
  <cp:revision>48</cp:revision>
  <dc:subject/>
  <dc:title>Présentation PowerPoint</dc:title>
</cp:coreProperties>
</file>