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892-C1A6-48C7-8796-D54F9A5B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7CA-C1B8-4B30-B0EF-C05F2E4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7CE-FC7E-4DE2-AD46-C7E387D8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6AF-03F6-41FA-871A-F5E3AAFA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4BC-1C67-4416-9FAE-C2A88E80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BC2-2B02-4C66-B4A9-E258A078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1A0-0625-4E0A-9936-100D61C9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FE5-4DFE-4360-BD4A-881F02AE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B7E-7971-4054-9C55-3476F7BF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E30-42B3-479C-AB3F-00565012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5A5-27FE-4AB8-9D15-1EF1CF2F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17A-D88A-4E27-A1E9-C46AD421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E58-6A6F-444A-89D0-0C11585C0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052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3284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3-22T23:56:38Z</dcterms:modified>
  <cp:revision>53</cp:revision>
  <dc:subject/>
  <dc:title>Présentation PowerPoint</dc:title>
</cp:coreProperties>
</file>