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CE4A-0155-4CB9-97B8-564C7FE0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C782-C9AA-4775-A52D-7D89EEAB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51DA-D50F-415C-A014-C8082D208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479A-477F-47FE-8B5D-D19B233F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EAEB-E563-408B-B65E-BA1F331B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D6F2-B517-4F40-B717-48F3593A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46C2-231F-45FB-8E9F-FF7F3F39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4CB5-ECCD-496D-8ED3-52FD235D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E17E-BBD7-403B-B8D8-09FAD106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664F-2F3E-42AA-A461-E7358DC1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EE37-C684-4CB7-B9C1-15E11F7C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5E8-4FFF-46A7-A2AD-E64F49C6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7243-A065-405C-90CC-75892CF01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3:50Z</dcterms:modified>
  <cp:revision>6</cp:revision>
  <dc:subject/>
  <dc:title>Présentation PowerPoint</dc:title>
</cp:coreProperties>
</file>