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C34-7F5A-4898-85D8-1C400FCF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437-7DCE-4F0C-945A-6A7DABE7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576-ABF7-4620-B222-CE47E3C3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4339-779E-4685-B517-4712EA5D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E5A-996E-436F-9177-B746E760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7314-C82A-48E0-9296-439FF7A4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6C7-C19A-49F2-90BC-2FD7ADE9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388-97A0-4D9F-A88B-4C547A53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0FF-7138-43F7-97F4-5277DD47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2DD3-A5D4-4AC7-A7BE-C17DEA6A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8F7-1720-45BB-ADBC-9B9854A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8D7-6264-45BE-B0E4-E0B9D7D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8487-5069-4974-B3E0-54337D53F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551340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5513400"/>
              <a:gd name="textAreaBottom" fmla="*/ 5405760 h 5513400"/>
            </a:gdLst>
            <a:ahLst/>
            <a:rect l="textAreaLeft" t="textAreaTop" r="textAreaRight" b="textAreaBottom"/>
            <a:pathLst>
              <a:path w="21600" h="53889">
                <a:moveTo>
                  <a:pt x="3600" y="0"/>
                </a:moveTo>
                <a:arcTo wR="3600" hR="3600" stAng="16200000" swAng="-5400000"/>
                <a:lnTo>
                  <a:pt x="0" y="50289"/>
                </a:lnTo>
                <a:arcTo wR="3600" hR="3600" stAng="10800000" swAng="-5400000"/>
                <a:lnTo>
                  <a:pt x="18000" y="538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2227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27320"/>
              <a:gd name="textAreaBottom" fmla="*/ 2126880 h 2227320"/>
            </a:gdLst>
            <a:ahLst/>
            <a:rect l="textAreaLeft" t="textAreaTop" r="textAreaRight" b="textAreaBottom"/>
            <a:pathLst>
              <a:path w="21600" h="23384">
                <a:moveTo>
                  <a:pt x="3600" y="0"/>
                </a:moveTo>
                <a:arcTo wR="3600" hR="3600" stAng="16200000" swAng="-5400000"/>
                <a:lnTo>
                  <a:pt x="0" y="19784"/>
                </a:lnTo>
                <a:arcTo wR="3600" hR="3600" stAng="10800000" swAng="-5400000"/>
                <a:lnTo>
                  <a:pt x="18000" y="23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573408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573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16572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6165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-a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141720"/>
            <a:ext cx="190476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rgo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1T12:24:13Z</dcterms:modified>
  <cp:revision>48</cp:revision>
  <dc:subject/>
  <dc:title>Présentation PowerPoint</dc:title>
</cp:coreProperties>
</file>