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0840-84EB-4EC5-B894-900C104C3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946D-A169-4D08-88A9-72D13160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9735-C767-4403-9BE5-2968E4838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1040-D6A6-4A55-9CB6-E167EB4DA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E0A7-1BD9-4323-8760-07316577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1703-9303-43EA-AF27-C39D3F79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6058-A8FC-44ED-ADD4-69047165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85EB-BA28-4E98-8057-09B83FC6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4A83-791E-44B7-AC8F-1CA15AE1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B645-EA87-4C59-B51A-15A542AC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BE15-9BB1-485F-9FD2-308D78DB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8856-D41D-4310-BAD1-1FAA210E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44B3-674D-4850-8A5E-222BC803B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4114800"/>
            <a:ext cx="2666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57200"/>
            <a:ext cx="388620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agli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76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7628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76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227640" y="62064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J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27640" y="1413000"/>
            <a:ext cx="114300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1197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5146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348000" y="1773360"/>
            <a:ext cx="2087640" cy="13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860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6668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33526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26668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elo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43520" y="2637000"/>
            <a:ext cx="45720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00720" y="263700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vailable in 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43520" y="3246480"/>
            <a:ext cx="457200" cy="304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00720" y="309420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ork in progress. Partly available in Cactus or soon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43520" y="3855960"/>
            <a:ext cx="45720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300720" y="385596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urrently out of Cactus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9640" y="620640"/>
            <a:ext cx="936360" cy="1295640"/>
          </a:xfrm>
          <a:custGeom>
            <a:avLst/>
            <a:gdLst>
              <a:gd name="textAreaLeft" fmla="*/ 45720 w 936360"/>
              <a:gd name="textAreaRight" fmla="*/ 890640 w 936360"/>
              <a:gd name="textAreaTop" fmla="*/ 45720 h 1295640"/>
              <a:gd name="textAreaBottom" fmla="*/ 1249920 h 1295640"/>
            </a:gdLst>
            <a:ahLst/>
            <a:rect l="textAreaLeft" t="textAreaTop" r="textAreaRight" b="textAreaBottom"/>
            <a:pathLst>
              <a:path w="21600" h="29885">
                <a:moveTo>
                  <a:pt x="3600" y="0"/>
                </a:moveTo>
                <a:arcTo wR="3600" hR="3600" stAng="16200000" swAng="-5400000"/>
                <a:lnTo>
                  <a:pt x="0" y="26285"/>
                </a:lnTo>
                <a:arcTo wR="3600" hR="3600" stAng="10800000" swAng="-5400000"/>
                <a:lnTo>
                  <a:pt x="18000" y="298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06:50:50Z</dcterms:created>
  <dc:creator>Vincent Massol</dc:creator>
  <dc:description/>
  <dc:language>en-US</dc:language>
  <cp:lastModifiedBy>tahchiev</cp:lastModifiedBy>
  <dcterms:modified xsi:type="dcterms:W3CDTF">2008-02-01T14:46:25Z</dcterms:modified>
  <cp:revision>14</cp:revision>
  <dc:subject/>
  <dc:title>Présentation PowerPoint</dc:title>
</cp:coreProperties>
</file>