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7AEFD-7EC2-4F5B-BEF8-C792809D7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C7325-DBAE-4AA6-9918-6D129F798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4F0C0-7462-4F2E-9223-2143BE295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9BC82-BB39-464D-9FBC-F962465F0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77D25-C2DC-407E-9199-9CEC9E4D5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9EF7B-26F2-4969-969B-460E84A41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66005-444D-44E7-9E08-EAEF4A28A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6048F-9EA5-4C70-B355-D60C09738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56055-EACA-4234-8F16-15E1A967B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47C8C-7860-46CC-B7EC-B978983EB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88D23-CCDE-4E6E-BDEC-468F3F6AF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00385-8007-407F-9AE9-0B2B33727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C9B81-3072-475B-B3AA-44EA0A4C38E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4114800"/>
            <a:ext cx="26668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5800" y="457200"/>
            <a:ext cx="266688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ff"/>
              </a:gs>
              <a:gs pos="100000">
                <a:srgbClr val="c19a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38080" y="609480"/>
            <a:ext cx="11430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l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609480"/>
            <a:ext cx="11430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av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38080" y="1295280"/>
            <a:ext cx="11430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Fil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057400" y="1295280"/>
            <a:ext cx="11430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agli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7632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2280" y="12193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86200" y="457200"/>
            <a:ext cx="266688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ff"/>
              </a:gs>
              <a:gs pos="100000">
                <a:srgbClr val="c19a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86200" y="7632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038480" y="609480"/>
            <a:ext cx="11430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J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038480" y="1295280"/>
            <a:ext cx="11430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av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352680" y="12193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5800" y="2514600"/>
            <a:ext cx="266688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ff"/>
              </a:gs>
              <a:gs pos="100000">
                <a:srgbClr val="c19a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981080" y="2057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048120" y="1981080"/>
            <a:ext cx="9144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228600" y="3352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8080" y="2666880"/>
            <a:ext cx="11430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S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838080" y="3352680"/>
            <a:ext cx="11430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S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7400" y="2666880"/>
            <a:ext cx="11430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Velo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514600" y="365760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343400" y="2590920"/>
            <a:ext cx="457200" cy="304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800600" y="2590920"/>
            <a:ext cx="152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Available in 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343400" y="3200400"/>
            <a:ext cx="457200" cy="30492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0600" y="3048120"/>
            <a:ext cx="18288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Work in progress. Partly available in Cactus or soon avail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343400" y="3809880"/>
            <a:ext cx="457200" cy="304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800600" y="3809880"/>
            <a:ext cx="1523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urrently out of Cactus sc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14T06:50:50Z</dcterms:created>
  <dc:creator>Vincent Massol</dc:creator>
  <dc:description/>
  <dc:language>en-US</dc:language>
  <cp:lastModifiedBy>tahchiev</cp:lastModifiedBy>
  <dcterms:modified xsi:type="dcterms:W3CDTF">2008-02-01T13:22:30Z</dcterms:modified>
  <cp:revision>12</cp:revision>
  <dc:subject/>
  <dc:title>Présentation PowerPoint</dc:title>
</cp:coreProperties>
</file>