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8F6A-0DD7-47CA-A403-8AFA1026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18C-4DE2-44AD-A39F-FAD05E37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7C5E-C336-4E5E-91B5-E02BA020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24C-93A0-4281-B501-C805D354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2BEE-31CB-4DBD-A3CA-608ABBB3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7DF8-7120-43A9-9DE6-B6D0BBFF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63E6-76D9-4B1B-A892-017045A4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2CB7-71A4-4403-B3EE-436BB725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7F93-2719-4A7C-B858-68F068D0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3EAC-B255-4894-ADAF-1523C7D8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6AC-D0BD-4303-AFEA-0518E479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8F0B-D56E-43DA-83B9-9410B241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5246-4DF4-4BC3-B92A-60AF02F02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9200" y="1368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81280" y="2889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05200" y="28843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249228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040" y="13795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98100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170028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565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773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9080" y="3365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193500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77080" y="1935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329400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9080" y="121428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77080" y="1214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9080" y="265572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77080" y="2655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321300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SF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tahchiev</cp:lastModifiedBy>
  <dcterms:modified xsi:type="dcterms:W3CDTF">2008-02-02T15:24:28Z</dcterms:modified>
  <cp:revision>55</cp:revision>
  <dc:subject/>
  <dc:title>Présentation PowerPoint</dc:title>
</cp:coreProperties>
</file>