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49A-810D-4854-823D-57A4436F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927-CCA6-4AC3-91C5-AA44C4BF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88D-3F33-402D-81C5-465BEA57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F09-E34B-400D-A3FE-C08BF26D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DF0-E309-4A5E-87A6-7BEA817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E4A6-2F20-4FEE-86BB-639B1F54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D58-D05E-44AC-A5A0-EC32750C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537-4D24-4F2E-A49A-3393E23A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498-7E86-4955-93E2-9FA50479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CAB-87DF-48A3-8A02-A6701BB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274-3C65-4381-9B78-B2E8CAC5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F26-75E0-4F75-BA78-3979E60E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A5D2-DEA0-4BDA-B4A2-C7A569987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0080" y="2916360"/>
            <a:ext cx="100836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516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1-01T13:30:19Z</dcterms:modified>
  <cp:revision>52</cp:revision>
  <dc:subject/>
  <dc:title>Présentation PowerPoint</dc:title>
</cp:coreProperties>
</file>