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A694-4D64-43B8-B8ED-9850BFDC1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A7AD-F05A-496A-95AD-BD75D2D6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F8B6-5839-4E5A-99BA-0B099165F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1F3D-B4EF-4FF5-B972-B9D25AFBE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3F0D-6003-427B-8A81-EDC6B4D2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E541-FC35-4D29-B083-E1C9A311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FBA1-CD45-4193-B332-6BD4158F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6C03-7FDE-4FC6-AC12-546D41DC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4BD6-96DA-4449-8AFD-730812F2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1E5F-63C2-4D7C-9413-E6788CE0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8FD2-A2F8-40DC-AFCF-874C570A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2B36-B4B5-4CF3-9187-EB1B223E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2B6D-92EF-4B8C-B005-475B57B2A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3:50Z</dcterms:modified>
  <cp:revision>6</cp:revision>
  <dc:subject/>
  <dc:title>Présentation PowerPoint</dc:title>
</cp:coreProperties>
</file>