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C139-C4B7-4884-BF82-333692101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53F3-3BFE-44EE-B64B-FB57D97DB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5A93-D9C4-4E8C-A556-847924BAF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758B-61C8-4769-84F8-2789F53FE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941F-3198-4463-814D-11282AE80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F1B4-2010-4147-80A4-717465118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D86E-E0D7-4FC8-8A39-6F42F3EBE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2485-4579-4FC9-9B97-FA821B1AF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81E3-DAFD-40E1-8B72-A10561278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380D-B4E9-4B51-9FD8-269BC04DC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FF00-1F21-44EF-B13D-7C2B9271B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C7CD-2F90-4B9C-80F8-B02D3C16F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8DF81-D9F5-4FA0-B18E-C33BC2E594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letTest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05740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66ff"/>
              </a:gs>
              <a:gs pos="100000">
                <a:srgbClr val="e7bb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l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03848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letTest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990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447920" y="6858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990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581280" y="6858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5120" y="2286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267080" y="1981080"/>
            <a:ext cx="106704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38480" y="1752480"/>
            <a:ext cx="13716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724280" y="1447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147636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428640" y="1219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581280" y="12952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1447560" y="1219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12952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91120" y="1905120"/>
            <a:ext cx="1066680" cy="761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114800" y="1828800"/>
            <a:ext cx="106668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038480" y="3808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267080" y="152280"/>
            <a:ext cx="1067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tUp(),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XXX(),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arDown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4382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ient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05120" y="24382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752480" y="6858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09720" y="12952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320" y="39204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45720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beginXXX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320" y="165744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04920" y="155736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XXX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04920" y="2602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begin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174312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5T16:11:12Z</dcterms:created>
  <dc:creator>Vincent Massol</dc:creator>
  <dc:description/>
  <dc:language>en-US</dc:language>
  <cp:lastModifiedBy>Vincent Massol</cp:lastModifiedBy>
  <dcterms:modified xsi:type="dcterms:W3CDTF">2004-04-21T19:24:13Z</dcterms:modified>
  <cp:revision>5</cp:revision>
  <dc:subject/>
  <dc:title>Présentation PowerPoint</dc:title>
</cp:coreProperties>
</file>