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025-4570-4EBA-889F-C7413A3E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05B-1A6B-42CB-B583-34A701CF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9AB-1C88-4144-8E36-68BA59F5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1B8-555A-467F-AC2A-01066BE2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59E-1F2A-4102-9A42-D44F2695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373-E56B-485C-B305-5E124D6C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C96-3D6A-4DE3-B0D9-7B679671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E96-6D43-436D-AC96-C7D2A3F7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989-D517-4749-BDB8-15BFA38B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456-D638-4FAD-A004-E39D1A0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33E-397B-4180-B078-4BDADD83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158-39AD-4CAF-A8F4-0D05617E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1687-925C-4AAB-9DFE-69B4A9F10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07920"/>
            <a:ext cx="33134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4920" y="2708280"/>
            <a:ext cx="1009800" cy="10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97120" y="1557360"/>
            <a:ext cx="36216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907920"/>
            <a:ext cx="324036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9079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341360"/>
            <a:ext cx="1223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560" y="155736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2781360"/>
            <a:ext cx="122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5840" y="1557360"/>
            <a:ext cx="1009800" cy="503280"/>
          </a:xfrm>
          <a:prstGeom prst="rightArrow">
            <a:avLst>
              <a:gd name="adj1" fmla="val 45111"/>
              <a:gd name="adj2" fmla="val 35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4920" y="119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11280" y="2133720"/>
            <a:ext cx="3024360" cy="863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9079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2276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63640" y="227592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est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781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20500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49228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69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23T12:49:51Z</dcterms:modified>
  <cp:revision>40</cp:revision>
  <dc:subject/>
  <dc:title>Présentation PowerPoint</dc:title>
</cp:coreProperties>
</file>