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837E-4FA0-402F-B945-B63B8C542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8D22-9FE3-4FBE-9AC4-52B5B2D69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E5AC-8A76-4076-A38E-6367CFB4B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72D6-3151-4A4A-8D35-BBC9556D6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337D-73AD-42CC-A3C4-97CD14EFB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0083-A0B9-49E4-8923-65D246EF2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F386-7BDD-44FB-A991-CAD14A22D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05E5-8669-412F-84A5-E9A7873CC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20E0-7477-47EC-B60D-EFF86106B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4A9B-D95A-4028-8CAE-81C109E8B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6FEE-58C7-4CF4-988F-F0E05E7C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C806-E1BF-4039-819C-CBABB784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432A9-F580-4B01-AFE1-42FCE055F4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90920" y="76320"/>
            <a:ext cx="3276360" cy="4792680"/>
          </a:xfrm>
          <a:custGeom>
            <a:avLst/>
            <a:gdLst>
              <a:gd name="textAreaLeft" fmla="*/ 159840 w 3276360"/>
              <a:gd name="textAreaRight" fmla="*/ 3116520 w 3276360"/>
              <a:gd name="textAreaTop" fmla="*/ 159840 h 4792680"/>
              <a:gd name="textAreaBottom" fmla="*/ 4632840 h 4792680"/>
            </a:gdLst>
            <a:ahLst/>
            <a:rect l="textAreaLeft" t="textAreaTop" r="textAreaRight" b="textAreaBottom"/>
            <a:pathLst>
              <a:path w="21600" h="31596">
                <a:moveTo>
                  <a:pt x="3600" y="0"/>
                </a:moveTo>
                <a:arcTo wR="3600" hR="3600" stAng="16200000" swAng="-5400000"/>
                <a:lnTo>
                  <a:pt x="0" y="27996"/>
                </a:lnTo>
                <a:arcTo wR="3600" hR="3600" stAng="10800000" swAng="-5400000"/>
                <a:lnTo>
                  <a:pt x="18000" y="315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76320"/>
            <a:ext cx="2209680" cy="4792680"/>
          </a:xfrm>
          <a:custGeom>
            <a:avLst/>
            <a:gdLst>
              <a:gd name="textAreaLeft" fmla="*/ 107640 w 2209680"/>
              <a:gd name="textAreaRight" fmla="*/ 2102040 w 2209680"/>
              <a:gd name="textAreaTop" fmla="*/ 107640 h 4792680"/>
              <a:gd name="textAreaBottom" fmla="*/ 4685040 h 4792680"/>
            </a:gdLst>
            <a:ahLst/>
            <a:rect l="textAreaLeft" t="textAreaTop" r="textAreaRight" b="textAreaBottom"/>
            <a:pathLst>
              <a:path w="21600" h="46845">
                <a:moveTo>
                  <a:pt x="3600" y="0"/>
                </a:moveTo>
                <a:arcTo wR="3600" hR="3600" stAng="16200000" swAng="-5400000"/>
                <a:lnTo>
                  <a:pt x="0" y="43245"/>
                </a:lnTo>
                <a:arcTo wR="3600" hR="3600" stAng="10800000" swAng="-5400000"/>
                <a:lnTo>
                  <a:pt x="18000" y="468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00600" y="457200"/>
            <a:ext cx="990720" cy="282744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30">
                <a:moveTo>
                  <a:pt x="3600" y="0"/>
                </a:moveTo>
                <a:arcTo wR="3600" hR="3600" stAng="16200000" swAng="-5400000"/>
                <a:lnTo>
                  <a:pt x="0" y="58030"/>
                </a:lnTo>
                <a:arcTo wR="3600" hR="3600" stAng="10800000" swAng="-5400000"/>
                <a:lnTo>
                  <a:pt x="18000" y="6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 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457200"/>
            <a:ext cx="990720" cy="282744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30">
                <a:moveTo>
                  <a:pt x="3600" y="0"/>
                </a:moveTo>
                <a:arcTo wR="3600" hR="3600" stAng="16200000" swAng="-5400000"/>
                <a:lnTo>
                  <a:pt x="0" y="58030"/>
                </a:lnTo>
                <a:arcTo wR="3600" hR="3600" stAng="10800000" swAng="-5400000"/>
                <a:lnTo>
                  <a:pt x="18000" y="6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457200"/>
            <a:ext cx="990360" cy="282744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53">
                <a:moveTo>
                  <a:pt x="3600" y="0"/>
                </a:moveTo>
                <a:arcTo wR="3600" hR="3600" stAng="16200000" swAng="-5400000"/>
                <a:lnTo>
                  <a:pt x="0" y="58053"/>
                </a:lnTo>
                <a:arcTo wR="3600" hR="3600" stAng="10800000" swAng="-5400000"/>
                <a:lnTo>
                  <a:pt x="18000" y="616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66880" y="457200"/>
            <a:ext cx="990720" cy="282744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30">
                <a:moveTo>
                  <a:pt x="3600" y="0"/>
                </a:moveTo>
                <a:arcTo wR="3600" hR="3600" stAng="16200000" swAng="-5400000"/>
                <a:lnTo>
                  <a:pt x="0" y="58030"/>
                </a:lnTo>
                <a:arcTo wR="3600" hR="3600" stAng="10800000" swAng="-5400000"/>
                <a:lnTo>
                  <a:pt x="18000" y="6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33920" y="457200"/>
            <a:ext cx="990360" cy="282744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53">
                <a:moveTo>
                  <a:pt x="3600" y="0"/>
                </a:moveTo>
                <a:arcTo wR="3600" hR="3600" stAng="16200000" swAng="-5400000"/>
                <a:lnTo>
                  <a:pt x="0" y="58053"/>
                </a:lnTo>
                <a:arcTo wR="3600" hR="3600" stAng="10800000" swAng="-5400000"/>
                <a:lnTo>
                  <a:pt x="18000" y="616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99072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95280" y="99072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3362400"/>
            <a:ext cx="2057400" cy="1434960"/>
          </a:xfrm>
          <a:prstGeom prst="roundRect">
            <a:avLst>
              <a:gd name="adj" fmla="val 16667"/>
            </a:avLst>
          </a:pr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666960"/>
            <a:ext cx="838080" cy="381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4j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95280" y="3666960"/>
            <a:ext cx="838440" cy="1057320"/>
          </a:xfrm>
          <a:custGeom>
            <a:avLst/>
            <a:gdLst>
              <a:gd name="textAreaLeft" fmla="*/ 40680 w 838440"/>
              <a:gd name="textAreaRight" fmla="*/ 797760 w 838440"/>
              <a:gd name="textAreaTop" fmla="*/ 40680 h 1057320"/>
              <a:gd name="textAreaBottom" fmla="*/ 1016640 h 1057320"/>
            </a:gdLst>
            <a:ahLst/>
            <a:rect l="textAreaLeft" t="textAreaTop" r="textAreaRight" b="textAreaBottom"/>
            <a:pathLst>
              <a:path w="21600" h="27236">
                <a:moveTo>
                  <a:pt x="3600" y="0"/>
                </a:moveTo>
                <a:arcTo wR="3600" hR="3600" stAng="16200000" swAng="-5400000"/>
                <a:lnTo>
                  <a:pt x="0" y="23636"/>
                </a:lnTo>
                <a:arcTo wR="3600" hR="3600" stAng="10800000" swAng="-5400000"/>
                <a:lnTo>
                  <a:pt x="18000" y="272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HttpUn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a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httpuni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idy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xerces.j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283212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our cact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43200" y="990720"/>
            <a:ext cx="190512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76920" y="144792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our cact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99072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our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under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66880" y="3355920"/>
            <a:ext cx="3124440" cy="1441440"/>
          </a:xfrm>
          <a:prstGeom prst="roundRect">
            <a:avLst>
              <a:gd name="adj" fmla="val 16667"/>
            </a:avLst>
          </a:pr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3200" y="366084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4j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366084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90920" y="534348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Figure 1 : Classpath config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280" y="5191200"/>
            <a:ext cx="838440" cy="30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66680" y="51912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and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5572080"/>
            <a:ext cx="83844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5572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p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4124160"/>
            <a:ext cx="838080" cy="600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r j2ee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76920" y="366084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95280" y="144792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httpclien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85920" y="1895400"/>
            <a:ext cx="838080" cy="381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spectjr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738520" y="1447920"/>
            <a:ext cx="190476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spectjr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85920" y="2349360"/>
            <a:ext cx="838080" cy="381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mm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ogging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38520" y="1916280"/>
            <a:ext cx="190476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mmons logging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90920" y="76320"/>
            <a:ext cx="3276360" cy="3733560"/>
          </a:xfrm>
          <a:custGeom>
            <a:avLst/>
            <a:gdLst>
              <a:gd name="textAreaLeft" fmla="*/ 159840 w 3276360"/>
              <a:gd name="textAreaRight" fmla="*/ 3116520 w 3276360"/>
              <a:gd name="textAreaTop" fmla="*/ 159840 h 3733560"/>
              <a:gd name="textAreaBottom" fmla="*/ 3573720 h 3733560"/>
            </a:gdLst>
            <a:ahLst/>
            <a:rect l="textAreaLeft" t="textAreaTop" r="textAreaRight" b="textAreaBottom"/>
            <a:pathLst>
              <a:path w="21600" h="24614">
                <a:moveTo>
                  <a:pt x="3600" y="0"/>
                </a:moveTo>
                <a:arcTo wR="3600" hR="3600" stAng="16200000" swAng="-5400000"/>
                <a:lnTo>
                  <a:pt x="0" y="21014"/>
                </a:lnTo>
                <a:arcTo wR="3600" hR="3600" stAng="10800000" swAng="-5400000"/>
                <a:lnTo>
                  <a:pt x="18000" y="246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320" y="76320"/>
            <a:ext cx="2209680" cy="3733560"/>
          </a:xfrm>
          <a:custGeom>
            <a:avLst/>
            <a:gdLst>
              <a:gd name="textAreaLeft" fmla="*/ 107640 w 2209680"/>
              <a:gd name="textAreaRight" fmla="*/ 2102040 w 2209680"/>
              <a:gd name="textAreaTop" fmla="*/ 107640 h 3733560"/>
              <a:gd name="textAreaBottom" fmla="*/ 3625920 h 3733560"/>
            </a:gdLst>
            <a:ahLst/>
            <a:rect l="textAreaLeft" t="textAreaTop" r="textAreaRight" b="textAreaBottom"/>
            <a:pathLst>
              <a:path w="21600" h="36494">
                <a:moveTo>
                  <a:pt x="3600" y="0"/>
                </a:moveTo>
                <a:arcTo wR="3600" hR="3600" stAng="16200000" swAng="-5400000"/>
                <a:lnTo>
                  <a:pt x="0" y="32894"/>
                </a:lnTo>
                <a:arcTo wR="3600" hR="3600" stAng="10800000" swAng="-5400000"/>
                <a:lnTo>
                  <a:pt x="18000" y="364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457200"/>
            <a:ext cx="990720" cy="190512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29">
                <a:moveTo>
                  <a:pt x="3600" y="0"/>
                </a:moveTo>
                <a:arcTo wR="3600" hR="3600" stAng="16200000" swAng="-5400000"/>
                <a:lnTo>
                  <a:pt x="0" y="37929"/>
                </a:lnTo>
                <a:arcTo wR="3600" hR="3600" stAng="10800000" swAng="-5400000"/>
                <a:lnTo>
                  <a:pt x="18000" y="415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 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2280" y="457200"/>
            <a:ext cx="990720" cy="190512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29">
                <a:moveTo>
                  <a:pt x="3600" y="0"/>
                </a:moveTo>
                <a:arcTo wR="3600" hR="3600" stAng="16200000" swAng="-5400000"/>
                <a:lnTo>
                  <a:pt x="0" y="37929"/>
                </a:lnTo>
                <a:arcTo wR="3600" hR="3600" stAng="10800000" swAng="-5400000"/>
                <a:lnTo>
                  <a:pt x="18000" y="415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19320" y="457200"/>
            <a:ext cx="990360" cy="190512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44">
                <a:moveTo>
                  <a:pt x="3600" y="0"/>
                </a:moveTo>
                <a:arcTo wR="3600" hR="3600" stAng="16200000" swAng="-5400000"/>
                <a:lnTo>
                  <a:pt x="0" y="37944"/>
                </a:lnTo>
                <a:arcTo wR="3600" hR="3600" stAng="10800000" swAng="-5400000"/>
                <a:lnTo>
                  <a:pt x="18000" y="415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66880" y="457200"/>
            <a:ext cx="990720" cy="190512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29">
                <a:moveTo>
                  <a:pt x="3600" y="0"/>
                </a:moveTo>
                <a:arcTo wR="3600" hR="3600" stAng="16200000" swAng="-5400000"/>
                <a:lnTo>
                  <a:pt x="0" y="37929"/>
                </a:lnTo>
                <a:arcTo wR="3600" hR="3600" stAng="10800000" swAng="-5400000"/>
                <a:lnTo>
                  <a:pt x="18000" y="415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733920" y="457200"/>
            <a:ext cx="990360" cy="190512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44">
                <a:moveTo>
                  <a:pt x="3600" y="0"/>
                </a:moveTo>
                <a:arcTo wR="3600" hR="3600" stAng="16200000" swAng="-5400000"/>
                <a:lnTo>
                  <a:pt x="0" y="37944"/>
                </a:lnTo>
                <a:arcTo wR="3600" hR="3600" stAng="10800000" swAng="-5400000"/>
                <a:lnTo>
                  <a:pt x="18000" y="415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2280" y="2438280"/>
            <a:ext cx="2057400" cy="1219320"/>
          </a:xfrm>
          <a:prstGeom prst="roundRect">
            <a:avLst>
              <a:gd name="adj" fmla="val 16667"/>
            </a:avLst>
          </a:pr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666880" y="2438280"/>
            <a:ext cx="3124440" cy="1219320"/>
          </a:xfrm>
          <a:prstGeom prst="roundRect">
            <a:avLst>
              <a:gd name="adj" fmla="val 16667"/>
            </a:avLst>
          </a:pr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26420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igure 2 : Configuration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280" y="4111560"/>
            <a:ext cx="83844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66680" y="41115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and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4492800"/>
            <a:ext cx="838440" cy="30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66680" y="44928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p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99072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743200"/>
            <a:ext cx="190512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4j.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99072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web.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43200" y="2743200"/>
            <a:ext cx="297180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4j.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725560" y="146376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2-07-22T15:39:09Z</dcterms:modified>
  <cp:revision>45</cp:revision>
  <dc:subject/>
  <dc:title>Présentation PowerPoint</dc:title>
</cp:coreProperties>
</file>