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D27D-2CBE-4782-A8B1-A4160965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075-84A2-4519-83C1-A689559A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A819-1D02-49E4-9385-E2177285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7EF-A41E-42F0-9604-23258346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FA7-651D-449B-B3AF-510C60A8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556-A425-4443-800C-A62E3335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46F-E655-4568-BB7F-BF072674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52ED-E836-4160-B887-D3A44BA2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50F5-368D-4E93-A904-2B94A060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ED3-20F5-4C7E-AAE8-EB30FBD4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DEC-E201-4428-867F-C8868428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DC1-6F5D-4116-AD3E-128C26E1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7BB9-021D-494E-A421-4CAD3F947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189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59280" y="189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1197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1197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2205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205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 (Eclipse, IntelliJ,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3213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59280" y="3213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MS 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4221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4221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AI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33336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1125360"/>
            <a:ext cx="1584360" cy="7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1917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2709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etty/Ope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350208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429264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27664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13372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91628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234936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234936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96000" y="549360"/>
            <a:ext cx="503280" cy="504720"/>
            <a:chOff x="5796000" y="549360"/>
            <a:chExt cx="503280" cy="504720"/>
          </a:xfrm>
        </p:grpSpPr>
        <p:sp>
          <p:nvSpPr>
            <p:cNvPr id="63" name=""/>
            <p:cNvSpPr/>
            <p:nvPr/>
          </p:nvSpPr>
          <p:spPr>
            <a:xfrm>
              <a:off x="5938920" y="693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280" y="620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96000" y="549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796000" y="1557360"/>
            <a:ext cx="503280" cy="504720"/>
            <a:chOff x="5796000" y="1557360"/>
            <a:chExt cx="503280" cy="504720"/>
          </a:xfrm>
        </p:grpSpPr>
        <p:sp>
          <p:nvSpPr>
            <p:cNvPr id="67" name=""/>
            <p:cNvSpPr/>
            <p:nvPr/>
          </p:nvSpPr>
          <p:spPr>
            <a:xfrm>
              <a:off x="5938920" y="1701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67280" y="1628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96000" y="1557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96000" y="4581360"/>
            <a:ext cx="503280" cy="504720"/>
            <a:chOff x="5796000" y="4581360"/>
            <a:chExt cx="503280" cy="504720"/>
          </a:xfrm>
        </p:grpSpPr>
        <p:sp>
          <p:nvSpPr>
            <p:cNvPr id="71" name=""/>
            <p:cNvSpPr/>
            <p:nvPr/>
          </p:nvSpPr>
          <p:spPr>
            <a:xfrm>
              <a:off x="5938920" y="4725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4652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6000" y="4581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796000" y="3573360"/>
            <a:ext cx="503280" cy="504720"/>
            <a:chOff x="5796000" y="3573360"/>
            <a:chExt cx="503280" cy="504720"/>
          </a:xfrm>
        </p:grpSpPr>
        <p:sp>
          <p:nvSpPr>
            <p:cNvPr id="75" name=""/>
            <p:cNvSpPr/>
            <p:nvPr/>
          </p:nvSpPr>
          <p:spPr>
            <a:xfrm>
              <a:off x="5938920" y="3717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67280" y="3644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6000" y="3573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867280" y="2565360"/>
            <a:ext cx="503280" cy="504720"/>
            <a:chOff x="5867280" y="2565360"/>
            <a:chExt cx="503280" cy="504720"/>
          </a:xfrm>
        </p:grpSpPr>
        <p:sp>
          <p:nvSpPr>
            <p:cNvPr id="79" name=""/>
            <p:cNvSpPr/>
            <p:nvPr/>
          </p:nvSpPr>
          <p:spPr>
            <a:xfrm>
              <a:off x="6010200" y="270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38560" y="263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67280" y="2565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8000" y="477720"/>
            <a:ext cx="273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1080" y="549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Unit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49360"/>
            <a:ext cx="15843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549360"/>
            <a:ext cx="1297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73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 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437080" y="477720"/>
            <a:ext cx="2376720" cy="936720"/>
            <a:chOff x="5437080" y="477720"/>
            <a:chExt cx="2376720" cy="936720"/>
          </a:xfrm>
        </p:grpSpPr>
        <p:sp>
          <p:nvSpPr>
            <p:cNvPr id="88" name=""/>
            <p:cNvSpPr/>
            <p:nvPr/>
          </p:nvSpPr>
          <p:spPr>
            <a:xfrm>
              <a:off x="5437080" y="477720"/>
              <a:ext cx="2376720" cy="93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c19a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37080" y="477720"/>
              <a:ext cx="237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6227640" y="838080"/>
              <a:ext cx="792360" cy="289080"/>
              <a:chOff x="6227640" y="838080"/>
              <a:chExt cx="792360" cy="289080"/>
            </a:xfrm>
          </p:grpSpPr>
          <p:sp>
            <p:nvSpPr>
              <p:cNvPr id="91" name=""/>
              <p:cNvSpPr/>
              <p:nvPr/>
            </p:nvSpPr>
            <p:spPr>
              <a:xfrm>
                <a:off x="6227640" y="838080"/>
                <a:ext cx="79236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248520" y="86220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623640" y="86220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300720" y="911160"/>
              <a:ext cx="792360" cy="288720"/>
              <a:chOff x="6300720" y="911160"/>
              <a:chExt cx="792360" cy="288720"/>
            </a:xfrm>
          </p:grpSpPr>
          <p:sp>
            <p:nvSpPr>
              <p:cNvPr id="95" name=""/>
              <p:cNvSpPr/>
              <p:nvPr/>
            </p:nvSpPr>
            <p:spPr>
              <a:xfrm>
                <a:off x="6300720" y="911160"/>
                <a:ext cx="792360" cy="288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21600" y="934920"/>
                <a:ext cx="35424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96720" y="934920"/>
                <a:ext cx="37548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372360" y="982440"/>
              <a:ext cx="792000" cy="289080"/>
              <a:chOff x="6372360" y="982440"/>
              <a:chExt cx="792000" cy="289080"/>
            </a:xfrm>
          </p:grpSpPr>
          <p:sp>
            <p:nvSpPr>
              <p:cNvPr id="99" name=""/>
              <p:cNvSpPr/>
              <p:nvPr/>
            </p:nvSpPr>
            <p:spPr>
              <a:xfrm>
                <a:off x="6372360" y="982440"/>
                <a:ext cx="79200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393240" y="100656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68360" y="100656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291636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220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19T08:04:01Z</dcterms:modified>
  <cp:revision>23</cp:revision>
  <dc:subject/>
  <dc:title>Présentation PowerPoint</dc:title>
</cp:coreProperties>
</file>