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5BF-7F37-456D-9B59-31BA120E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A84-5808-4F64-95A1-6BECD087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ED5-2911-4511-A3C6-65E318DF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9DE-BB60-476F-8135-D029ADD4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C4E-E2F4-40A7-B6EB-20CA0D3F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75D-5F97-4808-875E-708221D3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C78-8557-4273-88E1-D51BB5DF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A1B-F91E-4FE2-BB65-38B8C0E2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43F-4598-4890-A671-8A2765DB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407-666A-462F-8917-E25F191C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F00-7ED3-42BE-A206-7A616865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F35-4FDE-4BBC-ABEF-14241243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4F94-81A3-4510-97CC-6619C4004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0080" y="2916360"/>
            <a:ext cx="100836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516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11-01T13:30:19Z</dcterms:modified>
  <cp:revision>52</cp:revision>
  <dc:subject/>
  <dc:title>Présentation PowerPoint</dc:title>
</cp:coreProperties>
</file>