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3EDF-7405-4073-8461-B0C0F00B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7F64-67A0-4598-9504-CCE9868A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F40-921A-4202-B9CC-4E124D754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42C5-BFD9-4C6A-9ABB-F4226B0C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018-2993-4875-B9AA-9003BE6E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EDD-3DFB-4EB5-9EC0-A03675F6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8CE-C496-4B53-9A1F-3A494498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1CE-0407-4D54-9C42-8EB6A8FB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C8E-232B-4B6C-966F-59CDF4CF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C11-B151-4A54-A21E-BB5F0E73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0A0-B8F3-40D4-8671-F7C490DF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C9D-6C29-4032-B4AE-6374DB5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F026-C416-4357-A5A4-2CEB39D1B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07920"/>
            <a:ext cx="331344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4920" y="2708280"/>
            <a:ext cx="1009800" cy="1008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97120" y="1557360"/>
            <a:ext cx="36216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907920"/>
            <a:ext cx="3240360" cy="29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90792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0872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341360"/>
            <a:ext cx="122364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nterce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02560" y="1557360"/>
            <a:ext cx="361800" cy="503280"/>
          </a:xfrm>
          <a:prstGeom prst="rightArrow">
            <a:avLst>
              <a:gd name="adj1" fmla="val 45111"/>
              <a:gd name="adj2" fmla="val 4429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2781360"/>
            <a:ext cx="122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p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5840" y="1557360"/>
            <a:ext cx="1009800" cy="503280"/>
          </a:xfrm>
          <a:prstGeom prst="rightArrow">
            <a:avLst>
              <a:gd name="adj1" fmla="val 45111"/>
              <a:gd name="adj2" fmla="val 359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14920" y="119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211280" y="2133720"/>
            <a:ext cx="3024360" cy="863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90792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04000" y="1197000"/>
            <a:ext cx="28908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67640" y="2276640"/>
            <a:ext cx="43164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6000" y="263700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63640" y="227592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141300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test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781360"/>
            <a:ext cx="1224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Test Ru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2205000"/>
            <a:ext cx="792000" cy="719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492280"/>
            <a:ext cx="28872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66920" y="2349360"/>
            <a:ext cx="28908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3-12-23T12:49:51Z</dcterms:modified>
  <cp:revision>40</cp:revision>
  <dc:subject/>
  <dc:title>Présentation PowerPoint</dc:title>
</cp:coreProperties>
</file>