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87F-EB50-4AC2-9CA7-3C35149D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E4DD-C5AE-488F-B704-D3E07FEB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1CB2-F04E-48EB-AA16-6487D447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828-28B4-416A-B125-8AA17AD2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DDF-85FA-4E33-AEC9-A095186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0CD-941B-4D8A-ABA7-48B6A0EC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EB7-A565-48A8-BE81-D2B612B5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4680-27C0-4BA9-9C61-E1A1C547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D751-5F1B-498C-B878-4F6538C9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F77-5082-4F8F-9C03-9FDFF8D4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89F-4903-45AB-A6B6-61CAC0CF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6BF-5BCB-45C5-832E-927BB256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8489-A50C-4BF4-8C29-3060C9D34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40080" y="2916360"/>
            <a:ext cx="100836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7516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3-11-01T13:30:19Z</dcterms:modified>
  <cp:revision>52</cp:revision>
  <dc:subject/>
  <dc:title>Présentation PowerPoint</dc:title>
</cp:coreProperties>
</file>