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0AC-7FAC-4D7E-AB6A-ADEC40A1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BD8-2FDA-49DE-A9EE-A2E6FA59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CBA-42C8-470B-ABC5-D7BF54DF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68EE-503F-47D2-B236-E78A785D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6B06-D41A-4C5C-BF2B-D4B3ED55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C8C-B9BE-4014-B77C-1F8D6C1B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9DE-F0D0-448B-9910-9E1F9B99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88D-BEA8-4237-B300-8872EF8A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34E3-1332-4B2B-A858-701B8AEF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DC62-2FAF-4493-B772-7BB3E0E4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1CB-95EE-4495-9C58-39EC6AC4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D30-F195-4E75-976D-91B984D8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DD51-A140-437E-BBE7-5372145AF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50Z</dcterms:modified>
  <cp:revision>6</cp:revision>
  <dc:subject/>
  <dc:title>Présentation PowerPoint</dc:title>
</cp:coreProperties>
</file>