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0F3D-6E17-4571-87C8-37E13DDC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86C-2215-4317-8C94-D6D9C3F4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92B-402A-42D7-8812-1495B31DA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FEB-2642-4536-898D-E6BC82A9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BFF-A92A-4092-92AC-E389F6EC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8A3-5ACC-4CA4-9F48-A1CCB3AA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894-AC9C-4422-8F78-7E10E1F4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35BB-12A3-4FFB-8287-B45D897D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324-170B-4052-A0B8-98A50BF6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F291-953E-4DDD-BDAA-FF849682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0A3-D5D1-4C34-9762-BAEC71A5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9E0-9120-4649-8182-7A9B7C05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4B04-D035-4F53-85B3-96521609D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23Z</dcterms:modified>
  <cp:revision>6</cp:revision>
  <dc:subject/>
  <dc:title>Présentation PowerPoint</dc:title>
</cp:coreProperties>
</file>