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7EA-A4B0-43D1-849B-D3846FD3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396-CE29-4142-8821-D506998C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D8F-CE1B-4819-B006-13366580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C99-849E-40A5-A9D3-7C3CF1D1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221-5D43-4E38-9DFB-F1E1D81B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91AE-2798-4942-AE05-2BA0A03C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5663-A592-495C-AD56-C9B8C277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A97-7395-4607-B8CB-32B9E91E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F56-576F-4FAA-BEE8-32FF32A7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6F1-65E9-4CCA-9FF9-1164414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E5C-2AD6-4063-AB6F-E5C0A547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B54-7E08-4EC2-A38D-68173249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895B-6566-466C-B45D-8C99724F7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59280" y="189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189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let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1197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1197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JB 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59280" y="2205000"/>
            <a:ext cx="237672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205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 (Eclipse, IntelliJ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59280" y="3213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59280" y="3213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MS 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4221000"/>
            <a:ext cx="237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4221000"/>
            <a:ext cx="23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AI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33336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1280" y="1125360"/>
            <a:ext cx="1584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1917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270972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etty/Open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350208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4292640"/>
            <a:ext cx="1584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27664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13372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916280"/>
            <a:ext cx="1079280" cy="865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63640" y="2349360"/>
            <a:ext cx="576360" cy="503280"/>
          </a:xfrm>
          <a:prstGeom prst="rightArrow">
            <a:avLst>
              <a:gd name="adj1" fmla="val 50000"/>
              <a:gd name="adj2" fmla="val 2863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234936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96000" y="549360"/>
            <a:ext cx="503280" cy="504720"/>
            <a:chOff x="5796000" y="549360"/>
            <a:chExt cx="503280" cy="504720"/>
          </a:xfrm>
        </p:grpSpPr>
        <p:sp>
          <p:nvSpPr>
            <p:cNvPr id="63" name=""/>
            <p:cNvSpPr/>
            <p:nvPr/>
          </p:nvSpPr>
          <p:spPr>
            <a:xfrm>
              <a:off x="5938920" y="693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67280" y="620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96000" y="549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796000" y="1557360"/>
            <a:ext cx="503280" cy="504720"/>
            <a:chOff x="5796000" y="1557360"/>
            <a:chExt cx="503280" cy="504720"/>
          </a:xfrm>
        </p:grpSpPr>
        <p:sp>
          <p:nvSpPr>
            <p:cNvPr id="67" name=""/>
            <p:cNvSpPr/>
            <p:nvPr/>
          </p:nvSpPr>
          <p:spPr>
            <a:xfrm>
              <a:off x="5938920" y="1701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67280" y="1628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96000" y="1557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96000" y="4581360"/>
            <a:ext cx="503280" cy="504720"/>
            <a:chOff x="5796000" y="4581360"/>
            <a:chExt cx="503280" cy="504720"/>
          </a:xfrm>
        </p:grpSpPr>
        <p:sp>
          <p:nvSpPr>
            <p:cNvPr id="71" name=""/>
            <p:cNvSpPr/>
            <p:nvPr/>
          </p:nvSpPr>
          <p:spPr>
            <a:xfrm>
              <a:off x="5938920" y="4725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652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96000" y="4581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96000" y="3573360"/>
            <a:ext cx="503280" cy="504720"/>
            <a:chOff x="5796000" y="3573360"/>
            <a:chExt cx="503280" cy="504720"/>
          </a:xfrm>
        </p:grpSpPr>
        <p:sp>
          <p:nvSpPr>
            <p:cNvPr id="75" name=""/>
            <p:cNvSpPr/>
            <p:nvPr/>
          </p:nvSpPr>
          <p:spPr>
            <a:xfrm>
              <a:off x="5938920" y="3717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7280" y="3644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96000" y="3573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867280" y="2565360"/>
            <a:ext cx="503280" cy="504720"/>
            <a:chOff x="5867280" y="2565360"/>
            <a:chExt cx="503280" cy="504720"/>
          </a:xfrm>
        </p:grpSpPr>
        <p:sp>
          <p:nvSpPr>
            <p:cNvPr id="79" name=""/>
            <p:cNvSpPr/>
            <p:nvPr/>
          </p:nvSpPr>
          <p:spPr>
            <a:xfrm>
              <a:off x="6010200" y="27097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38560" y="2636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67280" y="25653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ee5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477720"/>
            <a:ext cx="273672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080" y="549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Unit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549360"/>
            <a:ext cx="1584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549360"/>
            <a:ext cx="1297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73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ctus 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437080" y="477720"/>
            <a:ext cx="2376720" cy="936720"/>
            <a:chOff x="5437080" y="477720"/>
            <a:chExt cx="2376720" cy="936720"/>
          </a:xfrm>
        </p:grpSpPr>
        <p:sp>
          <p:nvSpPr>
            <p:cNvPr id="88" name=""/>
            <p:cNvSpPr/>
            <p:nvPr/>
          </p:nvSpPr>
          <p:spPr>
            <a:xfrm>
              <a:off x="5437080" y="477720"/>
              <a:ext cx="2376720" cy="93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ff"/>
                </a:gs>
                <a:gs pos="100000">
                  <a:srgbClr val="c19ac1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37080" y="477720"/>
              <a:ext cx="237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6227640" y="838080"/>
              <a:ext cx="792360" cy="289080"/>
              <a:chOff x="6227640" y="838080"/>
              <a:chExt cx="792360" cy="289080"/>
            </a:xfrm>
          </p:grpSpPr>
          <p:sp>
            <p:nvSpPr>
              <p:cNvPr id="91" name=""/>
              <p:cNvSpPr/>
              <p:nvPr/>
            </p:nvSpPr>
            <p:spPr>
              <a:xfrm>
                <a:off x="6227640" y="838080"/>
                <a:ext cx="79236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248520" y="86220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623640" y="86220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300720" y="911160"/>
              <a:ext cx="792360" cy="288720"/>
              <a:chOff x="6300720" y="911160"/>
              <a:chExt cx="792360" cy="288720"/>
            </a:xfrm>
          </p:grpSpPr>
          <p:sp>
            <p:nvSpPr>
              <p:cNvPr id="95" name=""/>
              <p:cNvSpPr/>
              <p:nvPr/>
            </p:nvSpPr>
            <p:spPr>
              <a:xfrm>
                <a:off x="6300720" y="911160"/>
                <a:ext cx="792360" cy="2887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321600" y="934920"/>
                <a:ext cx="35424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696720" y="934920"/>
                <a:ext cx="375480" cy="2408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372360" y="982440"/>
              <a:ext cx="792000" cy="289080"/>
              <a:chOff x="6372360" y="982440"/>
              <a:chExt cx="792000" cy="289080"/>
            </a:xfrm>
          </p:grpSpPr>
          <p:sp>
            <p:nvSpPr>
              <p:cNvPr id="99" name=""/>
              <p:cNvSpPr/>
              <p:nvPr/>
            </p:nvSpPr>
            <p:spPr>
              <a:xfrm>
                <a:off x="6372360" y="982440"/>
                <a:ext cx="792000" cy="289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ccff"/>
                  </a:gs>
                  <a:gs pos="100000">
                    <a:srgbClr val="c19a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393240" y="1006560"/>
                <a:ext cx="35424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a3c2ff"/>
                  </a:gs>
                  <a:gs pos="100000">
                    <a:srgbClr val="dfe9fe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68360" y="1006560"/>
                <a:ext cx="375480" cy="241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5c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291636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2200" y="69372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19T08:04:01Z</dcterms:modified>
  <cp:revision>23</cp:revision>
  <dc:subject/>
  <dc:title>Présentation PowerPoint</dc:title>
</cp:coreProperties>
</file>