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B697-3549-462E-B952-DDBF88E69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FAE3-A4E2-46F3-B5B6-12310785D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6189-02D2-4073-91F7-742855DD6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2BF8-F1C2-49A4-B712-CEAD4A690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6A23-AA1D-4742-92BB-EC56FA340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27F9-6750-47B2-9872-0F5EE8825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7684-3856-4CCE-8AFD-92E4DD3CC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DA33-509E-43D0-8BB9-30EB35DF3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83B9-57E3-458B-80CD-DA124D9B1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E550-6C14-40F4-AF01-F344B36F6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03AE-2978-4CA3-A797-C1C00C32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D332-A19E-408C-B46A-D650A4F1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DAB1D-264F-4E41-9E81-DA84645D8D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8128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228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67080" y="1981080"/>
            <a:ext cx="10670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1752480"/>
            <a:ext cx="13716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242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14763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42864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812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44756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91120" y="1905120"/>
            <a:ext cx="10666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14800" y="1828800"/>
            <a:ext cx="10666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8480" y="380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67080" y="1522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tUp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XXX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arDow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52480" y="6858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0972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3920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4572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320" y="16574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15573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2602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7431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4-04-21T19:24:13Z</dcterms:modified>
  <cp:revision>5</cp:revision>
  <dc:subject/>
  <dc:title>Présentation PowerPoint</dc:title>
</cp:coreProperties>
</file>