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933E-D57D-47B4-B685-CCA0DF77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A501-3E0E-456F-89EC-F2F252AA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E446-5425-4213-BABE-A7ACA4C1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85C-4E56-4993-9479-5D81003A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6958-1FD6-4773-AC60-63C5C4F2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4E85-443B-4A70-972C-21EA6EEB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C4A4-22E0-4BB6-BD00-F278FA71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C03-FD99-40BC-AE32-395465DB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25C2-C687-4389-A454-4DBA0DC2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055E-791D-4DE1-B4DC-DD0F7B3A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9BC-2A62-4EF2-8593-336D2974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F683-4215-41EB-A0CA-E56126A3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4C01-5A38-4C30-8D24-9F1B08E21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09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2-04-14T08:58:57Z</dcterms:modified>
  <cp:revision>12</cp:revision>
  <dc:subject/>
  <dc:title>Présentation PowerPoint</dc:title>
</cp:coreProperties>
</file>