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037D-9A3A-40AE-BF61-80D937F03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0044-9EE9-4E1F-8743-84EB451D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8E6A-AEBB-401A-8170-BAE6B6190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8FEA-897B-4648-84A3-49CFCBCF8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DBC7-597F-4A71-A511-2F1792B4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99F8-751A-43A4-A9F9-C4F4517A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EF10-D60F-4461-8D22-166101D9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3113-1F87-4098-B883-BE71D2B2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07F7-0B50-49C8-9741-044A9CFD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9973-61E2-4E9C-A507-27008C94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510F-8B25-455A-BBAA-DF6E7F1E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33ED-57DF-4455-9861-057237B1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BA6A-6940-4F49-AA15-10B76A98E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457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600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600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9-25T14:20:40Z</dcterms:modified>
  <cp:revision>5</cp:revision>
  <dc:subject/>
  <dc:title>Présentation PowerPoint</dc:title>
</cp:coreProperties>
</file>