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02C-0ED9-417D-AD38-8CA12EA2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DB9-CBA6-48B1-A7D4-6DB483A0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8A4-36E3-49EE-8B44-091C5DD4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7F8-26A2-4560-946C-651F161C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579-4EBB-403D-AF3E-1A5D6294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F13-CE66-4667-88B0-E25B6035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D47-3BD1-4DDB-A7E5-2646E95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88F-B4B5-4BDB-A1F3-AC39551C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C27-1485-48D7-831B-D0BEBC01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DD6-7AE4-42BD-ADB6-ABB5ABC6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3B8-DF03-4379-9E25-969C2B5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011-CB92-4F61-BB5E-9D314B7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75D-3161-42F8-B371-215F263B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0-24T07:59:03Z</dcterms:modified>
  <cp:revision>48</cp:revision>
  <dc:subject/>
  <dc:title>Présentation PowerPoint</dc:title>
</cp:coreProperties>
</file>