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A851A-4FA9-426C-83F8-36115C4FF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103AF-DD62-48D3-9DDD-3AF6A2407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CAA65-D370-4AF2-A813-16C214C35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C813B-05F6-42EE-9710-8EF6B76D4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28270-D9FE-4476-BA91-5375A2615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C4EBF-AFA2-4287-A51D-712EB950A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FA5CC-D7D5-4AC9-9CBB-47691189D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29A01-F9A9-443B-8354-4D1991658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3B571-A8B9-477C-BC6B-8CAEC594C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85F2F-8CA0-4EF8-B897-0D23305C2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D911D-53D2-4010-BAEC-EEEC8D147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39DBE-EE23-461F-B6EB-7D53F41A6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3FB1B-973B-4BB9-89C0-5BD5C0929B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838080"/>
            <a:ext cx="13716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letTest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057400" y="838080"/>
            <a:ext cx="13716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66ff"/>
              </a:gs>
              <a:gs pos="100000">
                <a:srgbClr val="e7bb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edir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l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038480" y="838080"/>
            <a:ext cx="13716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letTest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9907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6320" y="45720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04920" y="45720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beginXXX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6320" y="160020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04920" y="160020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XXX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47920" y="68580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9907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81280" y="68580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905120" y="22860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1981080"/>
            <a:ext cx="106704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038480" y="1752480"/>
            <a:ext cx="137160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724280" y="1447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800600" y="147636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3428640" y="1219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581280" y="129528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1447560" y="1219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523880" y="129528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191120" y="1905120"/>
            <a:ext cx="1066680" cy="761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14800" y="1828800"/>
            <a:ext cx="106668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038480" y="38088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267080" y="152280"/>
            <a:ext cx="10670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tUp(),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stXXX(),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arDown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62120" y="243828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ient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905120" y="243828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752480" y="68580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809720" y="129528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5T16:11:12Z</dcterms:created>
  <dc:creator>Vincent Massol</dc:creator>
  <dc:description/>
  <dc:language>en-US</dc:language>
  <cp:lastModifiedBy>Vincent Massol</cp:lastModifiedBy>
  <dcterms:modified xsi:type="dcterms:W3CDTF">2001-03-07T10:17:06Z</dcterms:modified>
  <cp:revision>4</cp:revision>
  <dc:subject/>
  <dc:title>Présentation PowerPoint</dc:title>
</cp:coreProperties>
</file>