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B989-3955-4715-99B7-E65E53E8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71E5-1542-4E6A-B8D7-E65D7045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940D-336D-483B-BCDE-17B95CCA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5C31-91B8-4B05-82B8-CEFA1EAF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B1B-E510-45A1-84C1-61B56B04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14C2-4651-4773-88E0-1FAFA7FB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168-9005-41D0-840C-439BA3DE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F919-B758-472D-B6C3-3DD9202C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607-9A5A-41A0-A462-4B941661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9A7D-F4C8-40F4-944C-F02D8298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C45-8405-4DCB-A125-7997BDEB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244D-8E8E-4E20-8E93-C83A7F1D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B677-C1D9-40C9-AEDF-DCD2C0F5C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1981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59092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590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20040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0481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8098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8098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2-04-14T08:58:57Z</dcterms:modified>
  <cp:revision>12</cp:revision>
  <dc:subject/>
  <dc:title>Présentation PowerPoint</dc:title>
</cp:coreProperties>
</file>