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680-555D-4557-B8D3-5B57E57F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DFD-4CEC-43A3-B4BD-CE6DF033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568-2BA6-480E-8401-F26AB6A5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5FFC-0ED1-435C-9653-1620AB38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BF4-FAF9-4E6D-9877-55FB8294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BCD7-059A-49FD-92D8-5948E835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08A9-8493-40A2-98F8-7E3FB813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EF82-A893-4754-A05A-5F737269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CE7-FD12-470D-9DF1-3C7E2659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27A-FD7C-406B-8157-367AC41A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8F8D-26B9-4319-9CA4-30087E7D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F06F-983A-4206-B073-03EFAAC2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B052-1E5F-492B-903E-AEE396EEA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9-25T14:20:40Z</dcterms:modified>
  <cp:revision>5</cp:revision>
  <dc:subject/>
  <dc:title>Présentation PowerPoint</dc:title>
</cp:coreProperties>
</file>