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269-BB1A-4458-8103-E1574DC3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C5F-2B17-4FE8-B584-904A8B3F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643-F085-4E48-82CA-D81F6765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5FC-034F-4238-B6AC-382A15AE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517-4DAD-4D59-B9B8-2F1F6A33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1DF-BE69-48C7-8751-4FB2385E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B8F-CB6E-492E-B48A-C547D22F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57A-C205-47D8-9FA9-519874D3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E28-1B9D-4088-9D1F-F7857DB3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00A-2BD7-44A4-A7C8-B5E872B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FA4-324D-4A06-9A30-947A4FF4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187-6B35-4A0F-B06A-EA25059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1895-ADC6-418F-B423-F478D6D56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2:03Z</dcterms:modified>
  <cp:revision>5</cp:revision>
  <dc:subject/>
  <dc:title>Présentation PowerPoint</dc:title>
</cp:coreProperties>
</file>