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697-3783-4032-AE4F-0291E897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39E-CE04-4020-8070-CD579163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178-9247-4792-B0C8-0042101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3E3-B405-43A0-86F9-193B2D8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95C-6545-4D7A-99CB-024A229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295-8ED1-43F9-BEC7-6AD509C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D44-AAE6-4FDA-B453-83F30AC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D86-C747-49BD-B2C9-F8FBD8AC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C76-C51C-4C49-9C4A-1A0199D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418-6D3F-4061-B06B-AFBAE02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04E-1F93-4369-81C9-08289A3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673-F857-400A-8ECC-6E2AAFD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75B7-C8BA-46B2-A8AF-A0C94198A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0-24T07:59:03Z</dcterms:modified>
  <cp:revision>48</cp:revision>
  <dc:subject/>
  <dc:title>Présentation PowerPoint</dc:title>
</cp:coreProperties>
</file>