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704A-FFA5-45DB-94C0-19D67C881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A922-AE56-4087-A508-1F4546A5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F7C4-D154-42E2-86FC-F37AA719D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9F24-CA31-48F6-B6C9-95515705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163A-2295-480B-B233-24370C54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72E2-BC2A-46E6-9927-CDF4FAE7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D3DE-D57F-43BD-B257-51272802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0214-E2BD-46CD-A102-10952736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70BC-5BA6-4937-ACD9-ABA17F6B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C3AA-E299-41E1-8CEC-117BEE52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BEE6-2A8D-45F8-A30D-90CB0498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A52A-F2EE-4409-8826-B5D0AD2D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B376-A152-4175-BA64-4B0AA1A39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YY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YY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57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00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600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8-04T14:22:55Z</dcterms:modified>
  <cp:revision>6</cp:revision>
  <dc:subject/>
  <dc:title>Présentation PowerPoint</dc:title>
</cp:coreProperties>
</file>