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0D1-5E36-4B97-95FE-8B13929A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4AE-DB85-437B-B622-69ECFC58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332-E0AD-4CE9-A3C6-EF08F71C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263-FD31-40F4-B1EA-68D8FE01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65D-687E-457A-B452-A8B3B02E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764-2581-4694-85AB-82EB39CC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8ED-4142-4811-92E9-C70FC2F9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DE8-1069-4E57-AB74-1BCCD4EC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A76-7369-42FA-A126-7A8EAA4F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606-7056-4A63-8637-733C44C8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F8F-3DC2-4F93-9B9F-33EE2430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4C3-096D-4545-A03B-508537C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05DB-2C4C-4922-BB01-3BF43DF15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2:55Z</dcterms:modified>
  <cp:revision>6</cp:revision>
  <dc:subject/>
  <dc:title>Présentation PowerPoint</dc:title>
</cp:coreProperties>
</file>