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E7E-ED8E-4116-ABA6-46D80E0E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EB3-4B7F-42BA-BEBC-CC5D5923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262-43FE-405E-AB38-3B557559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80D-94E4-401F-8D58-66E0EF41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3FC-61F2-4BFD-BFFF-342D7BCE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50A-BD13-4686-9AA1-8710C2E0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EF4-C89C-46B1-AE21-FF3A13F6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D09-735B-4522-A166-56358DCD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BEB-6D42-438C-BC99-3A7A83A4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25B-EC6A-46C6-9CDA-C9598423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5BD-7D77-442B-B3BD-5EEA6D93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F424-778B-4610-BFF3-B13C27F7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6ABF-9223-4343-ADB9-216DAF834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9-25T14:20:40Z</dcterms:modified>
  <cp:revision>5</cp:revision>
  <dc:subject/>
  <dc:title>Présentation PowerPoint</dc:title>
</cp:coreProperties>
</file>