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7FB-6A70-4014-A8C8-D2566560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976-3DCA-4823-A378-D34BC09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CDE-8B68-4223-A5CD-2613FEDC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E7F-C855-4CCE-9DBF-4D8E126F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C3C-F0DD-4A41-BCA5-1ED1E26E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908-1013-4C6C-8501-2F42C1DA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2ED-3785-4857-BB59-1F7B5949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ABB-0822-4584-B287-88113295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B37-F232-4ED5-8578-2F54AB11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1E6-E94C-43C4-B8C2-7015BD62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5E8-F6A7-41AA-806C-FB08C393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8D7-F227-4D14-9570-4B08447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2AD5-F136-48C7-8AFB-B34F7ACF6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2:03Z</dcterms:modified>
  <cp:revision>5</cp:revision>
  <dc:subject/>
  <dc:title>Présentation PowerPoint</dc:title>
</cp:coreProperties>
</file>