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924-BD58-439D-A0E8-D9604E73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8CC-A351-4A0B-B718-4C6BA80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E54-4DF6-42E9-8DAD-C8395705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71C-4743-4DB9-9A36-F985AE3D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52E-4228-40B4-BF46-3753EF65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37C-2BDE-475C-8951-E60A8DCC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F20-58FD-49B5-9A63-68689D8B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BE7-1BDF-40C5-A70F-279FB2C0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5A6-1524-4355-BD34-42147C5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B32-ADF6-494C-BC39-DA9E8944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21F-C647-4AF9-A14D-A3FE26EC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134-2CE2-4A08-8109-57ED6B0A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4964-3D46-47C1-A4DC-DE61DCF99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533520"/>
            <a:ext cx="1371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4479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609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990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914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9144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914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4763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219320"/>
            <a:ext cx="1371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371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447560" y="12189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219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7:29Z</dcterms:modified>
  <cp:revision>7</cp:revision>
  <dc:subject/>
  <dc:title>Présentation PowerPoint</dc:title>
</cp:coreProperties>
</file>