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755A-8C5F-430A-B66F-81846E93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00EC-B71E-402E-A3B3-0B43D9D3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C930-CA0B-4492-B8A4-FF43D213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CCD3-718F-4F01-A133-0E00CB70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AC24-237E-4A8A-BCC9-B9E435DE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8B7F-D8B8-41CA-98BE-E56B3DEB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1B69-6DC7-4FB9-9158-F74077DC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5237-2079-416A-BAEA-3FF2F84A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5D39-B5B1-4ACF-B832-846AC8DD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2C43-E579-4F78-93A5-CEB17781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DADB-0BD0-4C28-BA31-46790CDA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0FF-4E3C-4F0E-9A90-53E4987C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0CAD-AAB9-4601-8535-707722A53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4T14:22:55Z</dcterms:modified>
  <cp:revision>6</cp:revision>
  <dc:subject/>
  <dc:title>Présentation PowerPoint</dc:title>
</cp:coreProperties>
</file>