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5FF-46BF-4C95-9C1D-1E08FFD8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606D-B4A9-4676-A901-DC2ECA1F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83D-5036-41D1-B7FF-5C80E97A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366E-04DC-4A34-BF32-3678D53D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5E0-BBAB-49C9-A3F1-E600896E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9DF-C7FD-46D5-906F-DB36571A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DFA6-7EFB-4DB5-A5AF-4B3F9D09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4244-DCB6-418E-8ABA-ABFFA091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D51-0401-490E-9417-80C3FDBD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58B-7A00-4842-8CF4-346CEFA0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759D-3CFB-4490-964A-8B6C75EF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22D6-4107-40FA-913B-63FCD15F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6249-C74F-4AAC-8E19-60DDB0B03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Cactus 1.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Cactus 1.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Cactus 1.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ctus 1.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Cactus 1.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1-09-11T14:48:04Z</dcterms:modified>
  <cp:revision>10</cp:revision>
  <dc:subject/>
  <dc:title>Présentation PowerPoint</dc:title>
</cp:coreProperties>
</file>