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038-306D-44AC-88A1-F79EBEB2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D4F-3A22-487A-953F-58A71736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6C33-4220-4009-9952-85A8F9A0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367F-4FF5-4AAB-8B00-EB03BC94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E1A-003D-4477-BFCD-4FD7A23A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80A-2CB2-4132-AD69-DADD1E4C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7481-4E51-49C1-88BB-FB3403AE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67F-A2B4-4662-BBDB-7EA4E83B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D3ED-79A9-4C81-9700-3404B22E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4A2-C106-4F9A-BCCE-6656031D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2B4F-A073-4964-A4E8-0D9F7281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30A-14B2-4B40-8DEB-56302C11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5A21-1AD6-4E96-978D-7941A27EE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nilla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nilla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304812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Soon to be 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380988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1-04-14T07:49:14Z</dcterms:modified>
  <cp:revision>8</cp:revision>
  <dc:subject/>
  <dc:title>Présentation PowerPoint</dc:title>
</cp:coreProperties>
</file>