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D88A-7A81-48CF-9D57-9AD0EA086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6C3C-C2C5-4F4A-9DA3-46030B17B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7554-A97B-4843-A8C6-5F4288D5D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A34C-2ACD-40DD-AA36-8C8DF5910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3479-62DB-43D5-87C2-23C26BAFB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5772-705E-40CA-8E84-798002624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A0D1-C92A-4E14-AB47-3D9DCA558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7722-6770-4DDA-B022-5DC707BAB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B841-21F5-4DB8-87DF-EEBDEE950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7C0F-C14F-42D0-9EF2-39AAF633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75E9-C556-46F7-944C-1F4544B5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8228-9584-42EE-8BC2-19688416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9958B-81C7-41D7-9498-5513FA8079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4572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16002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6002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4792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42864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812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44756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52480" y="6858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0972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1-03-07T10:17:06Z</dcterms:modified>
  <cp:revision>4</cp:revision>
  <dc:subject/>
  <dc:title>Présentation PowerPoint</dc:title>
</cp:coreProperties>
</file>