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3710-F100-4012-8FCD-01D57AA48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17B1-24DF-47B1-8CA1-687D53D8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C068-0243-4E90-AA31-AF39F9CC4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EF91-BE61-4774-9AA5-F73D003C2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FBD7-A793-4FA0-BEBB-87EAA740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3484-22B9-4F47-8D90-B70D1A71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EF55-3561-42BB-9498-BCB81B95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64B0-C8B7-41F3-B8E9-5782DD88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F357-A530-435B-B8CF-88D6DEC9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7EC6-49BE-48EE-98C4-DC8951EF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9D67-CB38-41EB-AAAE-2FCC00EC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3C1A-70C1-4C32-835E-D4CEF488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852C-7884-4B7E-8581-209738686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57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00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600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3-07T10:31:39Z</dcterms:modified>
  <cp:revision>5</cp:revision>
  <dc:subject/>
  <dc:title>Présentation PowerPoint</dc:title>
</cp:coreProperties>
</file>