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492-DA19-40A1-8876-34D453AA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ED2-A9E5-4574-83B8-3FD39B7A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B86-C81E-4E21-8122-FC1B0E58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37E-DCBD-4237-87DB-83555302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D80-C31F-4BD1-84FC-1AA8B47F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61E-F2B5-44BB-85D0-7BF29136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6F9-577B-40B1-9DEF-6DEE7F37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714-1421-49B5-96F8-884B95F3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5F9-299D-4133-87AC-83E97A1E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D70-A3F0-4238-AC5A-71C8DF7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868-C625-41E9-B6DD-DFF5742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E84-C89C-4DBC-8A13-DFE7337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CB27-FCD3-4087-AE82-1F7F48741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533520"/>
            <a:ext cx="1371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4479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609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990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914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9144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914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4763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219320"/>
            <a:ext cx="1371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371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447560" y="12189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219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6:01Z</dcterms:modified>
  <cp:revision>5</cp:revision>
  <dc:subject/>
  <dc:title>Présentation PowerPoint</dc:title>
</cp:coreProperties>
</file>