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383338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382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65520" cy="433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614760" y="0"/>
            <a:ext cx="2765520" cy="433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lstStyle>
            <a:lvl1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ko-K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8800" y="65196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39360" y="4127040"/>
            <a:ext cx="5102280" cy="39070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251920"/>
            <a:ext cx="2765520" cy="433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ko-K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614760" y="8251920"/>
            <a:ext cx="2765520" cy="4334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b">
            <a:noAutofit/>
          </a:bodyPr>
          <a:lstStyle>
            <a:lvl1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  <a:defRPr b="0" lang="ko-KR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3EE24579-5FA3-465C-A9D5-B25D4259160A}" type="slidenum"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19160" y="65232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39360" y="4127040"/>
            <a:ext cx="5102280" cy="39070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oSession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 connection between an IoHandler and a remote pe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Provides ways to send an I/O 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Write a 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Close the current 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tate inform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dlen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ast I/O ti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ransport layer paramet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ttributes: Protocol-specific data stor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14E-3867-4691-89C3-2EF7150B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5B2-F78F-4A61-B4FA-39FA4F4E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EDF-2693-47F2-9F5E-0C047962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BE3-4945-4199-B452-2985ECF2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F8C-2F9B-4411-B263-B9F8F7F1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748-F397-48F8-B0E3-7B5E3FE8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200E-77A6-44C1-8AFF-832CA886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FC5E-1904-41DC-A199-A2AE2DA7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462B-9F99-41A8-B253-BEEEE2F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9160-2533-469D-8584-BC42B9D0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45D-F2A1-45B2-85F4-300E565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CEA-A3E8-4A6B-AF99-C7D8D8BB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205-ACFD-47EB-AE58-BB40CCA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F19E-0652-4D62-BFC6-1AA2E065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B664-40C3-4991-9754-DB544B3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A5F9-7269-4058-8270-ED8EECA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47976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811680"/>
            <a:ext cx="294408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57A-8E07-483C-9E7D-F99BD973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32B-F873-4D14-A28A-4B21175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741-1D60-42A3-B7BD-273D78A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C11-E23B-4654-9D3F-AAAF4493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76B-02CD-429C-9499-558C40C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01E-25F5-44E1-8CA3-1C5B0F0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81168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22B-0864-4E89-A2C6-CBC3F80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479760"/>
            <a:ext cx="44622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11680"/>
            <a:ext cx="9144000" cy="3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23A-1871-471E-B76F-14BBF65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FCFF-1479-4D44-A040-E5D26783FECF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8CBD-8627-44E3-AFC2-CB3E386EB302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trustin@apache.org" TargetMode="External"/><Relationship Id="rId3" Type="http://schemas.openxmlformats.org/officeDocument/2006/relationships/hyperlink" Target="http://people.apache.org/~trustin/" TargetMode="External"/><Relationship Id="rId4" Type="http://schemas.openxmlformats.org/officeDocument/2006/relationships/hyperlink" Target="http://people.apache.org/~trustin/" TargetMode="External"/><Relationship Id="rId5" Type="http://schemas.openxmlformats.org/officeDocument/2006/relationships/hyperlink" Target="http://people.apache.org/~trustin/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rectory.apache.org/subprojects/network/demo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rectory.apache.org/subprojects/network/" TargetMode="External"/><Relationship Id="rId3" Type="http://schemas.openxmlformats.org/officeDocument/2006/relationships/hyperlink" Target="mailto:dev@directory.apache.org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ckfixengine.org/" TargetMode="External"/><Relationship Id="rId3" Type="http://schemas.openxmlformats.org/officeDocument/2006/relationships/hyperlink" Target="http://www.osflash.org/" TargetMode="External"/><Relationship Id="rId4" Type="http://schemas.openxmlformats.org/officeDocument/2006/relationships/hyperlink" Target="http://jstyx.sourceforge.net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Introduction to MINA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Trustin Le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33cc"/>
                </a:solidFill>
                <a:uFillTx/>
                <a:latin typeface="Trebuchet MS"/>
                <a:hlinkClick r:id="rId2"/>
              </a:rPr>
              <a:t>trustin@apache.or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33cc"/>
                </a:solidFill>
                <a:uFillTx/>
                <a:latin typeface="Trebuchet MS"/>
                <a:hlinkClick r:id="rId3"/>
              </a:rPr>
              <a:t>http://</a:t>
            </a:r>
            <a:r>
              <a:rPr b="0" lang="ko-KR" sz="1800" spc="-1" strike="noStrike" u="sng">
                <a:solidFill>
                  <a:srgbClr val="0033cc"/>
                </a:solidFill>
                <a:uFillTx/>
                <a:latin typeface="Trebuchet MS"/>
                <a:hlinkClick r:id="rId4"/>
              </a:rPr>
              <a:t>people.apache.org/~trustin</a:t>
            </a:r>
            <a:r>
              <a:rPr b="0" lang="ko-KR" sz="1800" spc="-1" strike="noStrike" u="sng">
                <a:solidFill>
                  <a:srgbClr val="0033cc"/>
                </a:solidFill>
                <a:uFillTx/>
                <a:latin typeface="Trebuchet MS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808000"/>
                </a:solidFill>
                <a:latin typeface="Trebuchet MS"/>
              </a:rPr>
              <a:t>IoFilters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n event &amp; request intercept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t-deploy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3048120"/>
          <a:ext cx="7696080" cy="2568600"/>
        </p:xfrm>
        <a:graphic>
          <a:graphicData uri="http://schemas.openxmlformats.org/drawingml/2006/table">
            <a:tbl>
              <a:tblPr/>
              <a:tblGrid>
                <a:gridCol w="3962160"/>
                <a:gridCol w="37339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SL · T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ad p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SAS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Performance profi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Lightweight firew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er black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g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Authoriz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Traffic sh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80808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Trebuchet MS"/>
                        </a:rPr>
                        <a:t>Overload dete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FA8-80FC-4E90-A21D-D8615DB84A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43000" y="1143000"/>
          <a:ext cx="6934320" cy="16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143000"/>
                    <a:ext cx="693432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808000"/>
                </a:solidFill>
                <a:latin typeface="Trebuchet MS"/>
              </a:rPr>
              <a:t>IoFilters: ThreadPoolFilter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14480" y="4751280"/>
          <a:ext cx="7196040" cy="164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4480" y="4751280"/>
                    <a:ext cx="7196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143000" y="2925720"/>
          <a:ext cx="6934320" cy="164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2925720"/>
                    <a:ext cx="693432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C75-D4B2-404E-8F37-41B7A45BC1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77457E-006 L 3.33333E-006 0.15769 E">
                                      <p:cBhvr>
                                        <p:cTn id="220" dur="1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4624E-006 L 3.33333E-006 -0.10197 E">
                                      <p:cBhvr>
                                        <p:cTn id="222" dur="1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-3.61111E-006 -0.36852 E">
                                      <p:cBhvr>
                                        <p:cTn id="224" dur="1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15695 L 3.33333E-006 -0.01828 E"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 L 3.33333E-006 -0.0088 E">
                                      <p:cBhvr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36875 L -0.00017 -0.00324 E">
                                      <p:cBhvr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808000"/>
                </a:solidFill>
                <a:latin typeface="Trebuchet MS"/>
              </a:rPr>
              <a:t>IoFilters: ProtocolCodecFilter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Clear separation and reusabil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Business logic – </a:t>
            </a:r>
            <a:r>
              <a:rPr b="0" lang="ko-KR" sz="3200" spc="-1" strike="noStrike">
                <a:solidFill>
                  <a:srgbClr val="800000"/>
                </a:solidFill>
                <a:latin typeface="Trebuchet MS"/>
              </a:rPr>
              <a:t>IoHandl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Protocol codec – </a:t>
            </a:r>
            <a:r>
              <a:rPr b="0" lang="ko-KR" sz="3200" spc="-1" strike="noStrike">
                <a:solidFill>
                  <a:srgbClr val="800000"/>
                </a:solidFill>
                <a:latin typeface="Trebuchet MS"/>
              </a:rPr>
              <a:t>ProtocolCodecFilt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Out-of-the-bo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Object serializatio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Text li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04B-9C6D-427E-9A5E-7A0862C6C0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808000"/>
                </a:solidFill>
                <a:latin typeface="Trebuchet MS"/>
              </a:rPr>
              <a:t>IoFilters: ProtocolCodecFilters (Cont’d)</a:t>
            </a:r>
            <a:endParaRPr b="0" lang="en-US" sz="3600" spc="-1" strike="noStrike">
              <a:solidFill>
                <a:srgbClr val="808000"/>
              </a:solidFill>
              <a:latin typeface="Trebuchet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09680" y="990720"/>
          <a:ext cx="4676760" cy="55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990720"/>
                    <a:ext cx="467676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-457200" y="1066680"/>
            <a:ext cx="304920" cy="304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-1066680"/>
            <a:ext cx="2210040" cy="838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729400" y="-1143000"/>
            <a:ext cx="457200" cy="9144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505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cc"/>
                </a:solidFill>
                <a:latin typeface="Tahoma"/>
              </a:rPr>
              <a:t>POJO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0" lang="ko-KR" sz="2400" spc="-1" strike="noStrike">
                <a:solidFill>
                  <a:srgbClr val="800000"/>
                </a:solidFill>
                <a:latin typeface="Tahoma"/>
              </a:rPr>
              <a:t>ByteBuff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419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800000"/>
                </a:solidFill>
                <a:latin typeface="Tahoma"/>
              </a:rPr>
              <a:t>ByteBuffe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→ </a:t>
            </a:r>
            <a:r>
              <a:rPr b="0" lang="ko-KR" sz="2400" spc="-1" strike="noStrike">
                <a:solidFill>
                  <a:srgbClr val="0033cc"/>
                </a:solidFill>
                <a:latin typeface="Tahoma"/>
              </a:rPr>
              <a:t>POJO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Logic Onl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138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4272120" y="2138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9DF-C77A-4DF6-B2BB-55F7F3ACF8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2.22222E-006 L 0.37344 2.22222E-006 E">
                                      <p:cBhvr>
                                        <p:cTn id="274" dur="1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4.44444E-006 L 5.55112E-017 0.73888 E">
                                      <p:cBhvr>
                                        <p:cTn id="276" dur="1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 L 0.00209 0.81111 E">
                                      <p:cBhvr>
                                        <p:cTn id="278" dur="1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43 2.22222E-006 L 0.37343 0.25023 C 0.37343 0.36111 0.45781 0.50046 0.52986 0.50046 L 0.68854 0.50046 E">
                                      <p:cBhvr>
                                        <p:cTn id="286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854 0.50069 L 0.53021 0.50069 C 0.45902 0.50069 0.37187 0.56481 0.37187 0.61736 L 0.37187 0.73426 E">
                                      <p:cBhvr>
                                        <p:cTn id="321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300"/>
                            </p:stCondLst>
                            <p:childTnLst>
                              <p:par>
                                <p:cTn id="32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0.81111 L 0.00209 0.67778 E">
                                      <p:cBhvr>
                                        <p:cTn id="330" dur="1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310"/>
                            </p:stCondLst>
                            <p:childTnLst>
                              <p:par>
                                <p:cTn id="33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187 0.73426 L 0.42187 0.73426 C 0.44427 0.73426 0.47187 0.68495 0.47187 0.64514 L 0.47187 0.55625 E">
                                      <p:cBhvr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17 0.55555 L 0.4717 0.49444 C 0.4717 0.4669 0.53142 0.43333 0.58003 0.43333 L 0.68836 0.43333 E">
                                      <p:cBhvr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836 0.43333 L 0.57812 0.43333 C 0.52864 0.43333 0.4684 0.31342 0.4684 0.21666 L 0.4684 2.22222E-006 E">
                                      <p:cBhvr>
                                        <p:cTn id="38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300"/>
                            </p:stCondLst>
                            <p:childTnLst>
                              <p:par>
                                <p:cTn id="3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In-VM Pipe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265400"/>
            <a:ext cx="7086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/O events are converted in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4000" spc="-1" strike="noStrike">
                <a:solidFill>
                  <a:srgbClr val="800000"/>
                </a:solidFill>
                <a:latin typeface="Trebuchet MS"/>
              </a:rPr>
              <a:t>Direct Method Invocations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24648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protocol codec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twork latenc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the </a:t>
            </a: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same AP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9E5-6228-42D5-BDCE-07260234F4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Implementation Demo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lti-purpose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rastructure for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work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Reverse Echo Server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cho server which reverses a l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sing a built-in text line protocol codec in MIN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cc"/>
                </a:solidFill>
                <a:uFillTx/>
                <a:latin typeface="Trebuchet MS"/>
                <a:hlinkClick r:id="rId2"/>
              </a:rPr>
              <a:t>Click here to start the dem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Dem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9D0-DE56-44C0-9A9B-5563876C53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Future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lti-purpose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rastructure for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work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5280" y="1143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with Apache ASN.1 for complex protoco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1676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Users can build customized servers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y-mad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protocol cod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16765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custom protocols just like drawing a UML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8200" y="1066680"/>
          <a:ext cx="8183520" cy="324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8200" y="1066680"/>
                    <a:ext cx="818352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153120" y="1628640"/>
          <a:ext cx="2595600" cy="382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3120" y="1628640"/>
                    <a:ext cx="2595600" cy="38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MINA as a Platform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5400720"/>
          <a:ext cx="818676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5400720"/>
                    <a:ext cx="81867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71480" y="1630440"/>
          <a:ext cx="2664000" cy="382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480" y="1630440"/>
                    <a:ext cx="26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490920" y="1630440"/>
          <a:ext cx="2606760" cy="3827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0920" y="1630440"/>
                    <a:ext cx="26067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1A5-CA0F-4785-BEEC-3D5820057A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Real-Time Management System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</a:t>
            </a: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niversal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anagemen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i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JMX console and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</a:t>
            </a: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eb brows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Real tim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c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Server traff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oFilter Hot-deplo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Which client is sending what message now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Which messag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kes too</a:t>
            </a: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 long to proces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And &lt;</a:t>
            </a:r>
            <a:r>
              <a:rPr b="0" i="1" lang="ko-KR" sz="2800" spc="-1" strike="noStrike">
                <a:solidFill>
                  <a:srgbClr val="000000"/>
                </a:solidFill>
                <a:latin typeface="Trebuchet MS"/>
              </a:rPr>
              <a:t>what you want to monitor</a:t>
            </a: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27D-33FE-43EE-A06A-1EBFD98B83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-depth Vi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plementation Dem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C2A-414F-4834-A1F5-2776DE0B08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We Need Your Participation!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unds exciting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ease help MINA team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y MI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k ques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iticiz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port bu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nchmar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ibute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ibute a tutori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16A-F13E-4B77-B145-C2568689C8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Conclusion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lti-purpose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rastructure for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work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Conclusion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NA is an extensible network application framework that helps you implement your network application elegantly without compromising productivity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NA will be a full-featured network application dev. &amp; mgmt. platform if we get our efforts togeth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A11-FFAA-4CAC-88E9-45B815CBCE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Resources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33cc"/>
                </a:solidFill>
                <a:uFillTx/>
                <a:latin typeface="Trebuchet MS"/>
                <a:hlinkClick r:id="rId2"/>
              </a:rPr>
              <a:t>http://directory.apache.org/subprojects/network/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utori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re useful examp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rebuchet MS"/>
                <a:hlinkClick r:id="rId3"/>
              </a:rPr>
              <a:t>dev@directory.apache.org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(Please use ‘[mina]’ prefix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5A5-4506-4BB9-B5E3-809F39A643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Thank You!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Overview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lti-purpose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rastructure for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work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What is MINA?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ava network application frame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productiv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asy-to-lear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gant application desig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ynchronous · Event-driv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E25-8985-4731-A763-22C328070D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Elegant Application Design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it test friend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can test your application without a real client or server via mock objec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tensi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untime modification of application behavior using ‘filters’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intainable and Reus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paration of networking code (MINA), protocol codec, and business log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848-8013-4DC4-B5F8-B682B392F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Who Uses MINA?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The Apache Directory Projec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QuickFIX – </a:t>
            </a:r>
            <a:r>
              <a:rPr b="0" lang="ko-KR" sz="3200" spc="-1" strike="noStrike" u="sng">
                <a:solidFill>
                  <a:srgbClr val="0033cc"/>
                </a:solidFill>
                <a:uFillTx/>
                <a:latin typeface="Trebuchet MS"/>
                <a:hlinkClick r:id="rId2"/>
              </a:rPr>
              <a:t>QuickFIXEngine.or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Financial Information eXchange Protoc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RED5 Server – </a:t>
            </a:r>
            <a:r>
              <a:rPr b="0" lang="ko-KR" sz="3200" spc="-1" strike="noStrike" u="sng">
                <a:solidFill>
                  <a:srgbClr val="0033cc"/>
                </a:solidFill>
                <a:uFillTx/>
                <a:latin typeface="Trebuchet MS"/>
                <a:hlinkClick r:id="rId3"/>
              </a:rPr>
              <a:t>OSFlash.or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Macromedia Flash Media RTM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JStyx – </a:t>
            </a:r>
            <a:r>
              <a:rPr b="0" lang="ko-KR" sz="3200" spc="-1" strike="noStrike" u="sng">
                <a:solidFill>
                  <a:srgbClr val="0033cc"/>
                </a:solidFill>
                <a:uFillTx/>
                <a:latin typeface="Trebuchet MS"/>
                <a:hlinkClick r:id="rId4"/>
              </a:rPr>
              <a:t>JStyx.sf.n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Styx, a file sharing NFS-like protoc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rebuchet MS"/>
              </a:rPr>
              <a:t>Proprietary SMS · MMS serv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676520"/>
          <a:ext cx="6095880" cy="1166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D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Kerbe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rebuchet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9C2-D2D9-4919-93E1-2CD3A89031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Trebuchet MS"/>
              </a:rPr>
              <a:t>In-depth View</a:t>
            </a:r>
            <a:endParaRPr b="0" lang="en-US" sz="48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lti-purpose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frastructure for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work </a:t>
            </a:r>
            <a:r>
              <a:rPr b="0" lang="en-US" sz="2400" spc="-1" strike="noStrike">
                <a:solidFill>
                  <a:srgbClr val="8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5440" y="2133720"/>
            <a:ext cx="29718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76480" y="198108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rebuchet MS"/>
              </a:rPr>
              <a:t>At a Glance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981080"/>
            <a:ext cx="5486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IoSessionMana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rebuchet MS"/>
              </a:rPr>
              <a:t>Where real I/O occu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IoFilt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rebuchet MS"/>
              </a:rPr>
              <a:t>Filters I/O events · reques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IoHand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rebuchet MS"/>
              </a:rPr>
              <a:t>&lt;</a:t>
            </a:r>
            <a:r>
              <a:rPr b="0" i="1" lang="ko-KR" sz="2400" spc="-1" strike="noStrike">
                <a:solidFill>
                  <a:srgbClr val="000000"/>
                </a:solidFill>
                <a:latin typeface="Trebuchet MS"/>
              </a:rPr>
              <a:t>Your protocol logic</a:t>
            </a:r>
            <a:r>
              <a:rPr b="0" lang="ko-KR" sz="2400" spc="-1" strike="noStrike">
                <a:solidFill>
                  <a:srgbClr val="000000"/>
                </a:solidFill>
                <a:latin typeface="Trebuchet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rebuchet MS"/>
              </a:rPr>
              <a:t>IoSess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rebuchet MS"/>
              </a:rPr>
              <a:t>Represents a conn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49160" y="990720"/>
          <a:ext cx="4613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9160" y="990720"/>
                    <a:ext cx="461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-533520" y="1066680"/>
            <a:ext cx="304920" cy="304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3662280" y="-1509840"/>
            <a:ext cx="2590920" cy="12956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" y="-671400"/>
            <a:ext cx="2590560" cy="4572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-609480" y="3657600"/>
            <a:ext cx="30456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558120" y="-900000"/>
            <a:ext cx="2590560" cy="685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1B7-F3E0-49E3-8AD5-F270C65B79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0.00093 L 0.22188 0.00093 E">
                                      <p:cBhvr>
                                        <p:cTn id="16" dur="1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1441 0.74954 E">
                                      <p:cBhvr>
                                        <p:cTn id="1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3.33333E-006 L 2.77556E-017 0.24445 E">
                                      <p:cBhvr>
                                        <p:cTn id="20" dur="1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4.44444E-006 L 0.23021 4.44444E-006 E">
                                      <p:cBhvr>
                                        <p:cTn id="22" dur="1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63142 0.97453 E">
                                      <p:cBhvr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.24445 L 2.77556E-017 0.43334 E">
                                      <p:cBhvr>
                                        <p:cTn id="40" dur="1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88 0.00092 L 0.22188 0.18889 E">
                                      <p:cBhvr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88 0.18889 L 0.22188 0.37778 E">
                                      <p:cBhvr>
                                        <p:cTn id="60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88 0.37778 L 0.22188 0.5 E">
                                      <p:cBhvr>
                                        <p:cTn id="75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21 4.44444E-006 L 0.23021 0.12222 E">
                                      <p:cBhvr>
                                        <p:cTn id="77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21 0.12222 L 0.23021 0.23888 C 0.23021 0.2912 0.24253 0.35555 0.2526 0.35555 L 0.275 0.35555 E">
                                      <p:cBhvr>
                                        <p:cTn id="9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35555 L 0.29983 0.35555 C 0.31094 0.35555 0.325 0.29074 0.325 0.23888 L 0.325 0.12222 E">
                                      <p:cBhvr>
                                        <p:cTn id="10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88 0.5 L 0.31667 0.5 E">
                                      <p:cBhvr>
                                        <p:cTn id="122" dur="1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5 0.12222 L 0.325 4.44444E-006 E">
                                      <p:cBhvr>
                                        <p:cTn id="125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7 0.5 L 0.31667 0.37778 E">
                                      <p:cBhvr>
                                        <p:cTn id="130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7 0.37778 L 0.31667 0.18889 E">
                                      <p:cBhvr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67 0.18889 L 0.31667 2.22222E-006 E">
                                      <p:cBhvr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0.43334 L 2.77556E-017 0.24445 E">
                                      <p:cBhvr>
                                        <p:cTn id="160" dur="1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808000"/>
                </a:solidFill>
                <a:latin typeface="Trebuchet MS"/>
              </a:rPr>
              <a:t>IoSessionManagers</a:t>
            </a:r>
            <a:endParaRPr b="0" lang="en-US" sz="4000" spc="-1" strike="noStrike">
              <a:solidFill>
                <a:srgbClr val="808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In-dept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762120"/>
          <a:ext cx="8610480" cy="62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762120"/>
                    <a:ext cx="861048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33520" y="1752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er-sid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cepts clien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ent-sid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nects to a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743200"/>
            <a:ext cx="685800" cy="685800"/>
          </a:xfrm>
          <a:prstGeom prst="ellipse">
            <a:avLst/>
          </a:prstGeom>
          <a:noFill/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2743200"/>
            <a:ext cx="685800" cy="685800"/>
          </a:xfrm>
          <a:prstGeom prst="ellipse">
            <a:avLst/>
          </a:prstGeom>
          <a:noFill/>
          <a:ln w="101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20696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d their implement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4510080"/>
            <a:ext cx="2133720" cy="457200"/>
          </a:xfrm>
          <a:prstGeom prst="rect">
            <a:avLst/>
          </a:prstGeom>
          <a:noFill/>
          <a:ln w="101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624640" y="5176800"/>
            <a:ext cx="2438280" cy="457200"/>
          </a:xfrm>
          <a:prstGeom prst="rect">
            <a:avLst/>
          </a:prstGeom>
          <a:noFill/>
          <a:ln w="101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5862600"/>
            <a:ext cx="2590920" cy="457200"/>
          </a:xfrm>
          <a:prstGeom prst="rect">
            <a:avLst/>
          </a:prstGeom>
          <a:noFill/>
          <a:ln w="101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09680" y="4495680"/>
            <a:ext cx="2057400" cy="457200"/>
          </a:xfrm>
          <a:prstGeom prst="rect">
            <a:avLst/>
          </a:prstGeom>
          <a:noFill/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181480"/>
            <a:ext cx="2224080" cy="457200"/>
          </a:xfrm>
          <a:prstGeom prst="rect">
            <a:avLst/>
          </a:prstGeom>
          <a:noFill/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824120" y="5853240"/>
            <a:ext cx="2442960" cy="457200"/>
          </a:xfrm>
          <a:prstGeom prst="rect">
            <a:avLst/>
          </a:prstGeom>
          <a:noFill/>
          <a:ln w="1015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acheCon US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B88-2D11-4BCD-B5BE-3E7D4C68F9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13, 2005</a:t>
            </a: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ustin Lee</cp:lastModifiedBy>
  <dcterms:modified xsi:type="dcterms:W3CDTF">2005-12-23T06:44:02Z</dcterms:modified>
  <cp:revision>2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