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634-877D-4A8B-AD46-D0FE1716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B1D-9C0B-46F4-A40D-A0BC93D7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12B-DB02-47DF-A123-534E8624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9DD-2013-4B4C-BD8E-4A529148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52FA-D8C3-42A0-A7D5-244D739C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83C4-5265-45A5-8870-68296228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8921-CD39-4201-ABED-F24FFAA6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E87E-A0F1-4ED4-B1C6-999C4BBE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430D-3C60-4F6D-AEE7-7375873B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A7F9-6E4D-4D28-8642-7D3EB91B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2416-A69C-41F1-839D-FF49FD3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0C5-8938-472F-8CE2-D5C2D6C1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384C-FFFE-4412-A53A-0383AF4C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AED6-5670-4616-A1D6-DC8CEA13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DD0E-5F7C-47CA-AE46-1D47A706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9A1B-62B1-40D9-A5E0-890A4B83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E9ED-AB9E-4708-97FD-B303C34D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11E-1884-44FC-9A4A-A25A33ED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A57-748F-4F35-839A-27042085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0ED-DA76-41DA-80D9-005B211C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67E-DC26-4AB9-B106-C4977E91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631-09C5-4D8D-AE5C-36141ADF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0E6-C39A-41A0-9357-7189C5D2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79F-82ED-4B0C-9151-D5E66E10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6189-CCD3-4E4E-9262-967B8455F7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04B9-57A0-41F7-AFB8-256725B492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90640" algn="ctr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5280" algn="ctr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682640" algn="ctr">
              <a:spcBef>
                <a:spcPts val="4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irectory.apache.org/" TargetMode="External"/><Relationship Id="rId2" Type="http://schemas.openxmlformats.org/officeDocument/2006/relationships/hyperlink" Target="http://directory.apache.org/subprojects/network" TargetMode="External"/><Relationship Id="rId3" Type="http://schemas.openxmlformats.org/officeDocument/2006/relationships/hyperlink" Target="mailto:dev@directory.apache.org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Introduction to MINA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79560" y="3573360"/>
            <a:ext cx="6400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ltipurpo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frastru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plica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5805360"/>
            <a:ext cx="640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ril 2005, Trustin Lee, ASF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MINA Does For You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spcAft>
                <a:spcPts val="1125"/>
              </a:spcAft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You NEVER need to program..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eam I/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read manag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uffer manag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ecause it does ALL of them for you!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n what do you have to do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You Should Do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The first way to implement your protocol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ko-KR" sz="2600" spc="-1" strike="noStrike">
                <a:solidFill>
                  <a:srgbClr val="000000"/>
                </a:solidFill>
                <a:latin typeface="Tahoma"/>
              </a:rPr>
              <a:t>I/O Lay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IoHandl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reading and writing data buff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98560" y="1484280"/>
            <a:ext cx="72738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The second way to implement your protocol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53200" indent="-42192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ko-KR" sz="2600" spc="-1" strike="noStrike">
                <a:solidFill>
                  <a:srgbClr val="000000"/>
                </a:solidFill>
                <a:latin typeface="Tahoma"/>
              </a:rPr>
              <a:t>Protocol Lay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ProtocolProvi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exchanging objects (POJO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r codec performs transformations between</a:t>
            </a:r>
            <a:br>
              <a:rPr sz="2200"/>
            </a:b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data buffers and messag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spcAft>
                <a:spcPts val="1500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luggable (thanks to polymorphis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take full advantage of OOP for message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1044720" y="13986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52360" y="1268280"/>
            <a:ext cx="864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Mechanism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(with Filters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763640" y="1208160"/>
          <a:ext cx="6411960" cy="55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08160"/>
                    <a:ext cx="641196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09680" y="2766960"/>
            <a:ext cx="4233960" cy="3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311720" y="4883040"/>
            <a:ext cx="2131920" cy="3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is Filter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A reusable event intercep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Similar to Servlet filt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an be added and removed “on-the-fly”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Works in both coarse- and fine-grained way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Per Server Po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Per Individual Ses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Use Case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Implemented filter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Thread pool (= customizable thread model!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SS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Client blacklist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79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oming soon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Logging, Profiling, StartTLS, Peak Point Control, Traffic throttling, Firewall, and many more ..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Any contributions are welcome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Use Cases (Cont’d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ustomizable thread model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MINA runs in single thread mode by defaul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Good for low-latency ap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ThreadPoolFilt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 to make MINA  multi-thread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Good for high-scalability ap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tent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to Progra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lter Mechanis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of of Productivit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rchitecture Re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Proof of Productivity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mparis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55280" y="4508640"/>
            <a:ext cx="7559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 Core Java Tech Tips 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0% CPU consumption while socket buffer is full. (doesn’t register for OP_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SL support (never trivi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55640" y="1557360"/>
          <a:ext cx="7416720" cy="2508120"/>
        </p:xfrm>
        <a:graphic>
          <a:graphicData uri="http://schemas.openxmlformats.org/drawingml/2006/table">
            <a:tbl>
              <a:tblPr/>
              <a:tblGrid>
                <a:gridCol w="2303640"/>
                <a:gridCol w="2160360"/>
                <a:gridCol w="2952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in N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ho serv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 lines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lines (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5%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us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reusable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ters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Codecs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Hand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intain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y go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ore Complex Protocol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148428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ven echo server is hard to maintain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riting complex protocols with plain NIO is the beginning of your nightmare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299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Protocol Layer is your cozy pillow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22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Known implementations: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942840" y="4581360"/>
          <a:ext cx="4176720" cy="1440000"/>
        </p:xfrm>
        <a:graphic>
          <a:graphicData uri="http://schemas.openxmlformats.org/drawingml/2006/table">
            <a:tbl>
              <a:tblPr/>
              <a:tblGrid>
                <a:gridCol w="2012760"/>
                <a:gridCol w="2163960"/>
              </a:tblGrid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DA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rber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Pv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Re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Re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763640" y="1208160"/>
          <a:ext cx="6411960" cy="55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08160"/>
                    <a:ext cx="641196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clusi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clusi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flexible and extensi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twork application frame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at boosts developer productivit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How to Contribute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is a subprojec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000" spc="-1" strike="noStrike" u="sng">
                <a:solidFill>
                  <a:srgbClr val="bb9321"/>
                </a:solidFill>
                <a:uFillTx/>
                <a:latin typeface="Tahoma"/>
                <a:hlinkClick r:id="rId1"/>
              </a:rPr>
              <a:t>the Apache Directory Proje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omepage:</a:t>
            </a:r>
            <a:br>
              <a:rPr sz="2600"/>
            </a:br>
            <a:r>
              <a:rPr b="0" lang="en-US" sz="2600" spc="-1" strike="noStrike" u="sng">
                <a:solidFill>
                  <a:srgbClr val="bb9321"/>
                </a:solidFill>
                <a:uFillTx/>
                <a:latin typeface="Tahoma"/>
                <a:hlinkClick r:id="rId2"/>
              </a:rPr>
              <a:t>http://directory.apache.org/subprojects/n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iling List:</a:t>
            </a:r>
            <a:br>
              <a:rPr sz="2600"/>
            </a:br>
            <a:r>
              <a:rPr b="0" lang="en-US" sz="2600" spc="-1" strike="noStrike" u="sng">
                <a:solidFill>
                  <a:srgbClr val="bb9321"/>
                </a:solidFill>
                <a:uFillTx/>
                <a:latin typeface="Tahoma"/>
                <a:hlinkClick r:id="rId3"/>
              </a:rPr>
              <a:t>dev@directory.apache.org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(Use ‘[mina]’ prefix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Over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is MINA?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network application frame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19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eature-r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ensib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signed for agile client/server programm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16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- or server-less unit tes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high reusability and maintain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Yet scalable / high perform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Architecture: I/O Layer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5271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MINA abstracts all low-level I/O via abstract AP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Courier New"/>
              </a:rPr>
              <a:t>IoHandler</a:t>
            </a: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s get notified when I/O events occ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reading and writing data buff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42920" y="1557360"/>
          <a:ext cx="734544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734544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085760" y="2924280"/>
            <a:ext cx="3946680" cy="649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1085760" y="4235400"/>
            <a:ext cx="3946680" cy="649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Architecture: Protocol Layer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76360" y="1268280"/>
          <a:ext cx="684072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268280"/>
                    <a:ext cx="684072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254480" y="2924280"/>
            <a:ext cx="2203560" cy="1009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008080" y="4221000"/>
            <a:ext cx="4465800" cy="1008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5271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ilt upon I/O lay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od when you implement complex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ommunicate by sending and receiving message objects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INA Abstract API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ngle API for various transport typ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ighly extensi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Unit-test your server using mock object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 real clients anymore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INA Abstract API (Cont’d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nce a protocol implemented, it works for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IO socke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CP/IP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DP/I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-VM pip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ing so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n-NIO socke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 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allel 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cast (when Mustang is read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How to Program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6:14:50Z</dcterms:created>
  <dc:creator>Trustin Lee</dc:creator>
  <dc:description/>
  <dc:language>en-US</dc:language>
  <cp:lastModifiedBy>Trustin Lee</cp:lastModifiedBy>
  <dcterms:modified xsi:type="dcterms:W3CDTF">2005-05-02T08:59:34Z</dcterms:modified>
  <cp:revision>174</cp:revision>
  <dc:subject>Introduction to MINA</dc:subject>
  <dc:title>Introduction to MINA</dc:title>
</cp:coreProperties>
</file>