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D8D7-DFE2-4B6C-9337-CCF95725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D498-421E-4DCF-B14B-D5DBB129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22F-3D52-49DB-A3C0-BE89BEF3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8F1-54E6-424B-B64E-0C836390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F289-F5B0-4A81-BCC1-AACCF7E7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00DA-14F0-4AE1-9789-FDFEAE3A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F437-9F15-4A87-A6B8-DDB505EA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CA30-7AC3-4834-9937-447124A6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3142-3414-4B67-AF66-BD7F9154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01C6-437B-4463-9CE9-8B6D71D2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F958-D9D3-46C4-8CDE-EE77F4EF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9326-421F-4288-A629-550435EE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55AD-5CF6-4768-B5F4-465DA9E6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C4E8-ECEF-4174-988B-F059D02A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F568-7EA6-4599-87C6-260E5160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C320-811F-45D6-9CB7-FB908167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F8FB-A502-41FE-A9FA-68C42ACC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8CF5-7A62-4055-9A64-B84AFF21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E8EF-F1A8-494B-A4A9-7069E2B8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FF5-F3BB-4A80-BA62-D76C2309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346A-19B3-4324-A75E-EAE10DEE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0A3-938B-4EB6-9762-5D4F9D4E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DC1D-9820-433A-9A53-D882ED36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9758-62A4-4CA7-8406-DAC1202B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slideLayout" Target="../slideLayouts/slideLayout1.xml"/><Relationship Id="rId47" Type="http://schemas.openxmlformats.org/officeDocument/2006/relationships/slideLayout" Target="../slideLayouts/slideLayout2.xml"/><Relationship Id="rId48" Type="http://schemas.openxmlformats.org/officeDocument/2006/relationships/slideLayout" Target="../slideLayouts/slideLayout3.xml"/><Relationship Id="rId49" Type="http://schemas.openxmlformats.org/officeDocument/2006/relationships/slideLayout" Target="../slideLayouts/slideLayout4.xml"/><Relationship Id="rId50" Type="http://schemas.openxmlformats.org/officeDocument/2006/relationships/slideLayout" Target="../slideLayouts/slideLayout5.xml"/><Relationship Id="rId51" Type="http://schemas.openxmlformats.org/officeDocument/2006/relationships/slideLayout" Target="../slideLayouts/slideLayout6.xml"/><Relationship Id="rId52" Type="http://schemas.openxmlformats.org/officeDocument/2006/relationships/slideLayout" Target="../slideLayouts/slideLayout7.xml"/><Relationship Id="rId53" Type="http://schemas.openxmlformats.org/officeDocument/2006/relationships/slideLayout" Target="../slideLayouts/slideLayout8.xml"/><Relationship Id="rId54" Type="http://schemas.openxmlformats.org/officeDocument/2006/relationships/slideLayout" Target="../slideLayouts/slideLayout9.xml"/><Relationship Id="rId55" Type="http://schemas.openxmlformats.org/officeDocument/2006/relationships/slideLayout" Target="../slideLayouts/slideLayout10.xml"/><Relationship Id="rId56" Type="http://schemas.openxmlformats.org/officeDocument/2006/relationships/slideLayout" Target="../slideLayouts/slideLayout11.xml"/><Relationship Id="rId5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slideLayout" Target="../slideLayouts/slideLayout13.xml"/><Relationship Id="rId47" Type="http://schemas.openxmlformats.org/officeDocument/2006/relationships/slideLayout" Target="../slideLayouts/slideLayout14.xml"/><Relationship Id="rId48" Type="http://schemas.openxmlformats.org/officeDocument/2006/relationships/slideLayout" Target="../slideLayouts/slideLayout15.xml"/><Relationship Id="rId49" Type="http://schemas.openxmlformats.org/officeDocument/2006/relationships/slideLayout" Target="../slideLayouts/slideLayout16.xml"/><Relationship Id="rId50" Type="http://schemas.openxmlformats.org/officeDocument/2006/relationships/slideLayout" Target="../slideLayouts/slideLayout17.xml"/><Relationship Id="rId51" Type="http://schemas.openxmlformats.org/officeDocument/2006/relationships/slideLayout" Target="../slideLayouts/slideLayout18.xml"/><Relationship Id="rId52" Type="http://schemas.openxmlformats.org/officeDocument/2006/relationships/slideLayout" Target="../slideLayouts/slideLayout19.xml"/><Relationship Id="rId53" Type="http://schemas.openxmlformats.org/officeDocument/2006/relationships/slideLayout" Target="../slideLayouts/slideLayout20.xml"/><Relationship Id="rId54" Type="http://schemas.openxmlformats.org/officeDocument/2006/relationships/slideLayout" Target="../slideLayouts/slideLayout21.xml"/><Relationship Id="rId55" Type="http://schemas.openxmlformats.org/officeDocument/2006/relationships/slideLayout" Target="../slideLayouts/slideLayout22.xml"/><Relationship Id="rId56" Type="http://schemas.openxmlformats.org/officeDocument/2006/relationships/slideLayout" Target="../slideLayouts/slideLayout23.xml"/><Relationship Id="rId5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535800"/>
            <a:ext cx="9143640" cy="303840"/>
            <a:chOff x="0" y="6535800"/>
            <a:chExt cx="9143640" cy="303840"/>
          </a:xfrm>
        </p:grpSpPr>
        <p:grpSp>
          <p:nvGrpSpPr>
            <p:cNvPr id="1" name=""/>
            <p:cNvGrpSpPr/>
            <p:nvPr/>
          </p:nvGrpSpPr>
          <p:grpSpPr>
            <a:xfrm>
              <a:off x="0" y="6535800"/>
              <a:ext cx="4571640" cy="303840"/>
              <a:chOff x="0" y="6535800"/>
              <a:chExt cx="4571640" cy="303840"/>
            </a:xfrm>
          </p:grpSpPr>
          <p:sp>
            <p:nvSpPr>
              <p:cNvPr id="2" name=""/>
              <p:cNvSpPr/>
              <p:nvPr/>
            </p:nvSpPr>
            <p:spPr>
              <a:xfrm>
                <a:off x="4267080" y="6543360"/>
                <a:ext cx="304560" cy="29268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267080" y="6546960"/>
                <a:ext cx="304560" cy="29268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62160" y="6543360"/>
                <a:ext cx="304920" cy="29268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657600" y="6543360"/>
                <a:ext cx="304560" cy="29268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657600" y="6546960"/>
                <a:ext cx="304560" cy="29268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352680" y="6543360"/>
                <a:ext cx="304560" cy="29268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47760" y="6539400"/>
                <a:ext cx="304920" cy="29268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047760" y="6543360"/>
                <a:ext cx="304920" cy="29268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743200" y="6539400"/>
                <a:ext cx="304560" cy="29268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438280" y="6539400"/>
                <a:ext cx="304560" cy="29268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438280" y="6543360"/>
                <a:ext cx="304560" cy="29268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133360" y="6539400"/>
                <a:ext cx="304920" cy="29268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523880" y="6539400"/>
                <a:ext cx="304560" cy="29268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523880" y="6543360"/>
                <a:ext cx="304560" cy="29268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8960" y="6539400"/>
                <a:ext cx="304920" cy="29268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14400" y="6535800"/>
                <a:ext cx="304560" cy="29268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914400" y="6539400"/>
                <a:ext cx="304560" cy="29268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09480" y="6535800"/>
                <a:ext cx="304560" cy="29268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04560" y="6535800"/>
                <a:ext cx="304920" cy="29268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04560" y="6539400"/>
                <a:ext cx="304920" cy="29268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535800"/>
                <a:ext cx="304560" cy="29268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828800" y="6543360"/>
                <a:ext cx="304560" cy="29268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4572000" y="6535800"/>
              <a:ext cx="4571640" cy="303840"/>
              <a:chOff x="4572000" y="6535800"/>
              <a:chExt cx="4571640" cy="303840"/>
            </a:xfrm>
          </p:grpSpPr>
          <p:sp>
            <p:nvSpPr>
              <p:cNvPr id="25" name=""/>
              <p:cNvSpPr/>
              <p:nvPr/>
            </p:nvSpPr>
            <p:spPr>
              <a:xfrm>
                <a:off x="8839080" y="6543360"/>
                <a:ext cx="304560" cy="29268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839080" y="6546960"/>
                <a:ext cx="304560" cy="29268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534160" y="6543360"/>
                <a:ext cx="304560" cy="29268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229240" y="6543360"/>
                <a:ext cx="304560" cy="29268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229240" y="6546960"/>
                <a:ext cx="304560" cy="29268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924680" y="6543360"/>
                <a:ext cx="304560" cy="29268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19760" y="6539400"/>
                <a:ext cx="304560" cy="29268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19760" y="6543360"/>
                <a:ext cx="304560" cy="29268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314840" y="6539400"/>
                <a:ext cx="304560" cy="29268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010280" y="6539400"/>
                <a:ext cx="304560" cy="29268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010280" y="6543360"/>
                <a:ext cx="304560" cy="29268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705360" y="6539400"/>
                <a:ext cx="304560" cy="29268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6095880" y="6539400"/>
                <a:ext cx="304560" cy="29268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6095880" y="6543360"/>
                <a:ext cx="304560" cy="29268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90960" y="6539400"/>
                <a:ext cx="304560" cy="29268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486040" y="6535800"/>
                <a:ext cx="304560" cy="29268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486040" y="6539400"/>
                <a:ext cx="304560" cy="29268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81480" y="6535800"/>
                <a:ext cx="304560" cy="29268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4876560" y="6535800"/>
                <a:ext cx="304560" cy="29268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876560" y="6539400"/>
                <a:ext cx="304560" cy="29268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572000" y="6535800"/>
                <a:ext cx="304560" cy="29268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400440" y="6543360"/>
                <a:ext cx="304560" cy="29268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47" name=""/>
          <p:cNvGrpSpPr/>
          <p:nvPr/>
        </p:nvGrpSpPr>
        <p:grpSpPr>
          <a:xfrm>
            <a:off x="609480" y="533520"/>
            <a:ext cx="7901280" cy="609480"/>
            <a:chOff x="609480" y="533520"/>
            <a:chExt cx="7901280" cy="609480"/>
          </a:xfrm>
        </p:grpSpPr>
        <p:sp>
          <p:nvSpPr>
            <p:cNvPr id="48" name=""/>
            <p:cNvSpPr/>
            <p:nvPr/>
          </p:nvSpPr>
          <p:spPr>
            <a:xfrm>
              <a:off x="762120" y="1143000"/>
              <a:ext cx="761976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609480" y="533520"/>
              <a:ext cx="638280" cy="506160"/>
              <a:chOff x="609480" y="533520"/>
              <a:chExt cx="638280" cy="506160"/>
            </a:xfrm>
          </p:grpSpPr>
          <p:sp>
            <p:nvSpPr>
              <p:cNvPr id="50" name=""/>
              <p:cNvSpPr/>
              <p:nvPr/>
            </p:nvSpPr>
            <p:spPr>
              <a:xfrm>
                <a:off x="789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42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42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9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17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4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47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47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7872480" y="533520"/>
              <a:ext cx="638280" cy="506160"/>
              <a:chOff x="7872480" y="533520"/>
              <a:chExt cx="638280" cy="506160"/>
            </a:xfrm>
          </p:grpSpPr>
          <p:sp>
            <p:nvSpPr>
              <p:cNvPr id="59" name=""/>
              <p:cNvSpPr/>
              <p:nvPr/>
            </p:nvSpPr>
            <p:spPr>
              <a:xfrm>
                <a:off x="8052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05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05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872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980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977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910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910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681200" indent="-38592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2070000" indent="-38736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462B-81CA-4505-928B-6E14D1BA7D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6"/>
    <p:sldLayoutId id="2147483650" r:id="rId47"/>
    <p:sldLayoutId id="2147483651" r:id="rId48"/>
    <p:sldLayoutId id="2147483652" r:id="rId49"/>
    <p:sldLayoutId id="2147483653" r:id="rId50"/>
    <p:sldLayoutId id="2147483654" r:id="rId51"/>
    <p:sldLayoutId id="2147483655" r:id="rId52"/>
    <p:sldLayoutId id="2147483656" r:id="rId53"/>
    <p:sldLayoutId id="2147483657" r:id="rId54"/>
    <p:sldLayoutId id="2147483658" r:id="rId55"/>
    <p:sldLayoutId id="2147483659" r:id="rId56"/>
    <p:sldLayoutId id="2147483660" r:id="rId5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6505560"/>
            <a:ext cx="9143640" cy="304200"/>
            <a:chOff x="0" y="6505560"/>
            <a:chExt cx="9143640" cy="304200"/>
          </a:xfrm>
        </p:grpSpPr>
        <p:grpSp>
          <p:nvGrpSpPr>
            <p:cNvPr id="109" name=""/>
            <p:cNvGrpSpPr/>
            <p:nvPr/>
          </p:nvGrpSpPr>
          <p:grpSpPr>
            <a:xfrm>
              <a:off x="0" y="6505560"/>
              <a:ext cx="4571640" cy="304200"/>
              <a:chOff x="0" y="6505560"/>
              <a:chExt cx="4571640" cy="304200"/>
            </a:xfrm>
          </p:grpSpPr>
          <p:sp>
            <p:nvSpPr>
              <p:cNvPr id="110" name=""/>
              <p:cNvSpPr/>
              <p:nvPr/>
            </p:nvSpPr>
            <p:spPr>
              <a:xfrm>
                <a:off x="4267080" y="6513120"/>
                <a:ext cx="304560" cy="29304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67080" y="6516720"/>
                <a:ext cx="304560" cy="29304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962160" y="6513120"/>
                <a:ext cx="304920" cy="29304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57600" y="6513120"/>
                <a:ext cx="304560" cy="29304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57600" y="6516720"/>
                <a:ext cx="304560" cy="29304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52680" y="6513120"/>
                <a:ext cx="304560" cy="29304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47760" y="6509160"/>
                <a:ext cx="304920" cy="29304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47760" y="6513120"/>
                <a:ext cx="304920" cy="29304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43200" y="6509160"/>
                <a:ext cx="304560" cy="29304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438280" y="6509160"/>
                <a:ext cx="304560" cy="29304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38280" y="6513120"/>
                <a:ext cx="304560" cy="29304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360" y="6509160"/>
                <a:ext cx="304920" cy="29304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23880" y="6509160"/>
                <a:ext cx="304560" cy="29304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523880" y="6513120"/>
                <a:ext cx="304560" cy="29304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18960" y="6509160"/>
                <a:ext cx="304920" cy="29304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14400" y="6505560"/>
                <a:ext cx="304560" cy="29304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14400" y="6509160"/>
                <a:ext cx="304560" cy="29304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9480" y="6505560"/>
                <a:ext cx="304560" cy="29304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4560" y="6505560"/>
                <a:ext cx="304920" cy="29304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04560" y="6509160"/>
                <a:ext cx="304920" cy="29304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6505560"/>
                <a:ext cx="304560" cy="29304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28800" y="6513120"/>
                <a:ext cx="304560" cy="29304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572000" y="6505560"/>
              <a:ext cx="4571640" cy="304200"/>
              <a:chOff x="4572000" y="6505560"/>
              <a:chExt cx="4571640" cy="304200"/>
            </a:xfrm>
          </p:grpSpPr>
          <p:sp>
            <p:nvSpPr>
              <p:cNvPr id="133" name=""/>
              <p:cNvSpPr/>
              <p:nvPr/>
            </p:nvSpPr>
            <p:spPr>
              <a:xfrm>
                <a:off x="8839080" y="6513120"/>
                <a:ext cx="304560" cy="29304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839080" y="6516720"/>
                <a:ext cx="304560" cy="29304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534160" y="6513120"/>
                <a:ext cx="304560" cy="29304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229240" y="6513120"/>
                <a:ext cx="304560" cy="29304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229240" y="6516720"/>
                <a:ext cx="304560" cy="29304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924680" y="6513120"/>
                <a:ext cx="304560" cy="29304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619760" y="6509160"/>
                <a:ext cx="304560" cy="29304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19760" y="6513120"/>
                <a:ext cx="304560" cy="29304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314840" y="6509160"/>
                <a:ext cx="304560" cy="29304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10280" y="6509160"/>
                <a:ext cx="304560" cy="29304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10280" y="6513120"/>
                <a:ext cx="304560" cy="29304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705360" y="6509160"/>
                <a:ext cx="304560" cy="29304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5880" y="6509160"/>
                <a:ext cx="304560" cy="29304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5880" y="6513120"/>
                <a:ext cx="304560" cy="29304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90960" y="6509160"/>
                <a:ext cx="304560" cy="29304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86040" y="6505560"/>
                <a:ext cx="304560" cy="29304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86040" y="6509160"/>
                <a:ext cx="304560" cy="29304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81480" y="6505560"/>
                <a:ext cx="304560" cy="29304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76560" y="6505560"/>
                <a:ext cx="304560" cy="29304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76560" y="6509160"/>
                <a:ext cx="304560" cy="29304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2000" y="6505560"/>
                <a:ext cx="304560" cy="29304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00440" y="6513120"/>
                <a:ext cx="304560" cy="29304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609480" y="2362320"/>
            <a:ext cx="7925040" cy="761760"/>
            <a:chOff x="609480" y="2362320"/>
            <a:chExt cx="7925040" cy="761760"/>
          </a:xfrm>
        </p:grpSpPr>
        <p:sp>
          <p:nvSpPr>
            <p:cNvPr id="156" name=""/>
            <p:cNvSpPr/>
            <p:nvPr/>
          </p:nvSpPr>
          <p:spPr>
            <a:xfrm>
              <a:off x="766800" y="2362320"/>
              <a:ext cx="7599240" cy="0"/>
            </a:xfrm>
            <a:prstGeom prst="line">
              <a:avLst/>
            </a:prstGeom>
            <a:ln w="28440">
              <a:solidFill>
                <a:srgbClr val="f3c9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6800" y="3124080"/>
              <a:ext cx="759924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09480" y="2401920"/>
              <a:ext cx="804960" cy="676080"/>
              <a:chOff x="609480" y="2401920"/>
              <a:chExt cx="804960" cy="676080"/>
            </a:xfrm>
          </p:grpSpPr>
          <p:sp>
            <p:nvSpPr>
              <p:cNvPr id="159" name=""/>
              <p:cNvSpPr/>
              <p:nvPr/>
            </p:nvSpPr>
            <p:spPr>
              <a:xfrm>
                <a:off x="836640" y="2409840"/>
                <a:ext cx="38412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30320" y="2401920"/>
                <a:ext cx="384120" cy="34128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30320" y="273852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9480" y="2401920"/>
                <a:ext cx="27324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46280" y="240840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41240" y="2738520"/>
                <a:ext cx="38916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57360" y="2522520"/>
                <a:ext cx="172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57360" y="2738520"/>
                <a:ext cx="172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770960" y="2401920"/>
              <a:ext cx="763560" cy="676080"/>
              <a:chOff x="7770960" y="2401920"/>
              <a:chExt cx="763560" cy="676080"/>
            </a:xfrm>
          </p:grpSpPr>
          <p:sp>
            <p:nvSpPr>
              <p:cNvPr id="168" name=""/>
              <p:cNvSpPr/>
              <p:nvPr/>
            </p:nvSpPr>
            <p:spPr>
              <a:xfrm>
                <a:off x="7985160" y="2409840"/>
                <a:ext cx="36504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169120" y="2409840"/>
                <a:ext cx="365400" cy="33336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169120" y="2738520"/>
                <a:ext cx="36540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770960" y="2401920"/>
                <a:ext cx="25848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899480" y="2408400"/>
                <a:ext cx="36504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896240" y="2738520"/>
                <a:ext cx="36828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16680" y="2522520"/>
                <a:ext cx="163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816680" y="2738520"/>
                <a:ext cx="163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C489-850D-48E6-9DDC-2013342736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70360" y="105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890640" algn="ctr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5280" algn="ctr"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682640" algn="ctr">
              <a:spcBef>
                <a:spcPts val="4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8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8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6"/>
    <p:sldLayoutId id="2147483663" r:id="rId47"/>
    <p:sldLayoutId id="2147483664" r:id="rId48"/>
    <p:sldLayoutId id="2147483665" r:id="rId49"/>
    <p:sldLayoutId id="2147483666" r:id="rId50"/>
    <p:sldLayoutId id="2147483667" r:id="rId51"/>
    <p:sldLayoutId id="2147483668" r:id="rId52"/>
    <p:sldLayoutId id="2147483669" r:id="rId53"/>
    <p:sldLayoutId id="2147483670" r:id="rId54"/>
    <p:sldLayoutId id="2147483671" r:id="rId55"/>
    <p:sldLayoutId id="2147483672" r:id="rId56"/>
    <p:sldLayoutId id="2147483673" r:id="rId5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directory.apache.org/" TargetMode="External"/><Relationship Id="rId2" Type="http://schemas.openxmlformats.org/officeDocument/2006/relationships/hyperlink" Target="http://directory.apache.org/subprojects/network" TargetMode="External"/><Relationship Id="rId3" Type="http://schemas.openxmlformats.org/officeDocument/2006/relationships/hyperlink" Target="mailto:dev@directory.apache.org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Introduction to MINA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979560" y="3573360"/>
            <a:ext cx="64008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ltipurpo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frastru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two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plicat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332000" y="5805360"/>
            <a:ext cx="640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ril 2005, Trustin Lee, ASF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What MINA Does For You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spcAft>
                <a:spcPts val="1125"/>
              </a:spcAft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You NEVER need to program..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975"/>
              </a:spcBef>
              <a:spcAft>
                <a:spcPts val="975"/>
              </a:spcAft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tream I/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975"/>
              </a:spcBef>
              <a:spcAft>
                <a:spcPts val="975"/>
              </a:spcAft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I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975"/>
              </a:spcBef>
              <a:spcAft>
                <a:spcPts val="975"/>
              </a:spcAft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read managem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975"/>
              </a:spcBef>
              <a:spcAft>
                <a:spcPts val="975"/>
              </a:spcAft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uffer managem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ecause it does ALL of them for you!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en what do you have to do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What You Should Do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The first way to implement your protocol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Using </a:t>
            </a:r>
            <a:r>
              <a:rPr b="1" lang="ko-KR" sz="2600" spc="-1" strike="noStrike">
                <a:solidFill>
                  <a:srgbClr val="000000"/>
                </a:solidFill>
                <a:latin typeface="Tahoma"/>
              </a:rPr>
              <a:t>I/O Layer</a:t>
            </a: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Courier New"/>
              </a:rPr>
              <a:t>IoHandl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You communicate by reading and writing data buff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What You Should Do (Cont’d)</a:t>
            </a:r>
            <a:endParaRPr b="1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898560" y="1484280"/>
            <a:ext cx="72738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What You Should Do (Cont’d)</a:t>
            </a:r>
            <a:endParaRPr b="1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-429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The second way to implement your protocol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53200" indent="-42192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Using </a:t>
            </a:r>
            <a:r>
              <a:rPr b="1" lang="ko-KR" sz="2600" spc="-1" strike="noStrike">
                <a:solidFill>
                  <a:srgbClr val="000000"/>
                </a:solidFill>
                <a:latin typeface="Tahoma"/>
              </a:rPr>
              <a:t>Protocol Layer</a:t>
            </a: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Courier New"/>
              </a:rPr>
              <a:t>ProtocolProvid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42000" indent="-387000">
              <a:spcBef>
                <a:spcPts val="1100"/>
              </a:spcBef>
              <a:spcAft>
                <a:spcPts val="1100"/>
              </a:spcAft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You communicate by exchanging objects (POJO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42000" indent="-387000">
              <a:spcBef>
                <a:spcPts val="1100"/>
              </a:spcBef>
              <a:spcAft>
                <a:spcPts val="1100"/>
              </a:spcAft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Your codec performs transformations between</a:t>
            </a:r>
            <a:br>
              <a:rPr sz="2200"/>
            </a:b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data buffers and messag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13880" indent="-370440"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Reus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13880" indent="-370440">
              <a:spcBef>
                <a:spcPts val="499"/>
              </a:spcBef>
              <a:spcAft>
                <a:spcPts val="1500"/>
              </a:spcAft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luggable (thanks to polymorphis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42000" indent="-387000">
              <a:spcBef>
                <a:spcPts val="1100"/>
              </a:spcBef>
              <a:spcAft>
                <a:spcPts val="1100"/>
              </a:spcAft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You take full advantage of OOP for message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13880" indent="-370440"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heri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What You Should Do (Cont’d)</a:t>
            </a:r>
            <a:endParaRPr b="1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1044720" y="13986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52360" y="1268280"/>
            <a:ext cx="8640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Filter Mechanism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Architecture (with Filters)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763640" y="1208160"/>
          <a:ext cx="6411960" cy="55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208160"/>
                    <a:ext cx="6411960" cy="55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2209680" y="2766960"/>
            <a:ext cx="4233960" cy="3747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311720" y="4883040"/>
            <a:ext cx="2131920" cy="3747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What is Filter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A reusable event intercepto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42624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Similar to Servlet filt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Can be added and removed “on-the-fly”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Works in both coarse- and fine-grained way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42624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Per Server Por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42624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Per Individual Ses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Filter Use Cases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Implemented filters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70840" indent="-430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Thread pool (= customizable thread model!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0840" indent="-430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SS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0840" indent="-430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Client blacklisti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79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Coming soon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70840" indent="-430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Logging, Profiling, StartTLS, Peak Point Control, Traffic throttling, Firewall, and many more ..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0840" indent="-430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Any contributions are welcome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Filter Use Cases (Cont’d)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Customizable thread model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MINA runs in single thread mode by defaul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550"/>
              </a:spcBef>
              <a:buClr>
                <a:srgbClr val="eb933b"/>
              </a:buClr>
              <a:buSzPct val="80000"/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Good for low-latency app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Add a </a:t>
            </a:r>
            <a:r>
              <a:rPr b="1" lang="ko-KR" sz="2600" spc="-1" strike="noStrike">
                <a:solidFill>
                  <a:srgbClr val="000000"/>
                </a:solidFill>
                <a:latin typeface="Courier New"/>
              </a:rPr>
              <a:t>ThreadPoolFilter</a:t>
            </a: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 to make MINA  multi-thread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550"/>
              </a:spcBef>
              <a:buClr>
                <a:srgbClr val="eb933b"/>
              </a:buClr>
              <a:buSzPct val="80000"/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Good for high-scalability app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ontents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ow to Program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lter Mechanism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roof of Productivity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rchitecture Review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Proof of Productivity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omparison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55280" y="4508640"/>
            <a:ext cx="75596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 A Core Java Tech Tips 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00% CPU consumption while socket buffer is full. (doesn’t register for OP_WRI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SL support (never trivia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755640" y="1557360"/>
          <a:ext cx="7416720" cy="2508120"/>
        </p:xfrm>
        <a:graphic>
          <a:graphicData uri="http://schemas.openxmlformats.org/drawingml/2006/table">
            <a:tbl>
              <a:tblPr/>
              <a:tblGrid>
                <a:gridCol w="2303640"/>
                <a:gridCol w="2160360"/>
                <a:gridCol w="29527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in NI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cho serve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 lines</a:t>
                      </a: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lines (</a:t>
                      </a: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5%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usa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 reusable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ters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r>
                        <a:rPr b="0" lang="ko-KR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Codecs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r>
                        <a:rPr b="0" lang="ko-KR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Handl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intaina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y goo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More Complex Protocols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468360" y="1484280"/>
            <a:ext cx="82296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ven echo server is hard to maintain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100000"/>
              </a:lnSpc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riting complex protocols with plain NIO is the beginning of your nightmare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299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MINA Protocol Layer is your cozy pillow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22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Known implementations: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942840" y="4581360"/>
          <a:ext cx="4176720" cy="1440000"/>
        </p:xfrm>
        <a:graphic>
          <a:graphicData uri="http://schemas.openxmlformats.org/drawingml/2006/table">
            <a:tbl>
              <a:tblPr/>
              <a:tblGrid>
                <a:gridCol w="2012760"/>
                <a:gridCol w="2163960"/>
              </a:tblGrid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DA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MT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erber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APv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T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Architecture Review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Architecture Review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763640" y="1208160"/>
          <a:ext cx="6411960" cy="55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208160"/>
                    <a:ext cx="6411960" cy="55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onclusion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onclusion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MINA i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 flexible and extensib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network application framework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at boosts developer productivity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How to Contribute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MINA is a subprojec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000" spc="-1" strike="noStrike" u="sng">
                <a:solidFill>
                  <a:srgbClr val="bb9321"/>
                </a:solidFill>
                <a:uFillTx/>
                <a:latin typeface="Tahoma"/>
                <a:hlinkClick r:id="rId1"/>
              </a:rPr>
              <a:t>the Apache Directory Projec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omepage:</a:t>
            </a:r>
            <a:br>
              <a:rPr sz="2600"/>
            </a:br>
            <a:r>
              <a:rPr b="0" lang="en-US" sz="2600" spc="-1" strike="noStrike" u="sng">
                <a:solidFill>
                  <a:srgbClr val="bb9321"/>
                </a:solidFill>
                <a:uFillTx/>
                <a:latin typeface="Tahoma"/>
                <a:hlinkClick r:id="rId2"/>
              </a:rPr>
              <a:t>http://directory.apache.org/subprojects/netwo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ailing List:</a:t>
            </a:r>
            <a:br>
              <a:rPr sz="2600"/>
            </a:br>
            <a:r>
              <a:rPr b="0" lang="en-US" sz="2600" spc="-1" strike="noStrike" u="sng">
                <a:solidFill>
                  <a:srgbClr val="bb9321"/>
                </a:solidFill>
                <a:uFillTx/>
                <a:latin typeface="Tahoma"/>
                <a:hlinkClick r:id="rId3"/>
              </a:rPr>
              <a:t>dev@directory.apache.org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 (Use ‘[mina]’ prefix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Overview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What is MINA?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 network application framework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19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eature-ri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tensib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signed for agile client/server programmi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16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- or server-less unit test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high reusability and maintainabi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Yet scalable / high performa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Architecture: I/O Layer</a:t>
            </a:r>
            <a:endParaRPr b="1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5271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MINA abstracts all low-level I/O via abstract AP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Courier New"/>
              </a:rPr>
              <a:t>IoHandler</a:t>
            </a: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s get notified when I/O events occu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You communicate by reading and writing data buff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042920" y="1557360"/>
          <a:ext cx="7345440" cy="33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557360"/>
                    <a:ext cx="734544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1085760" y="2924280"/>
            <a:ext cx="3946680" cy="649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1085760" y="4235400"/>
            <a:ext cx="3946680" cy="649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Architecture: Protocol Layer</a:t>
            </a:r>
            <a:endParaRPr b="1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476360" y="1268280"/>
          <a:ext cx="684072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268280"/>
                    <a:ext cx="684072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4254480" y="2924280"/>
            <a:ext cx="2203560" cy="1009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2008080" y="4221000"/>
            <a:ext cx="4465800" cy="1008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5271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ilt upon I/O lay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98520" indent="-39852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ood when you implement complex protoco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98520" indent="-39852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ommunicate by sending and receiving message objects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MINA Abstract API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ngle API for various transport typ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ighly extensib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Unit-test your server using mock object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 real clients anymore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MINA Abstract API (Cont’d)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Once a protocol implemented, it works for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79840" indent="-43488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IO socke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CP/IP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DP/I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79840" indent="-43488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n-VM pip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9840" indent="-43488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ming soon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n-NIO socke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rial p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allel p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ticast (when Mustang is read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How to Program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6:14:50Z</dcterms:created>
  <dc:creator>Trustin Lee</dc:creator>
  <dc:description/>
  <dc:language>en-US</dc:language>
  <cp:lastModifiedBy>Trustin Lee</cp:lastModifiedBy>
  <dcterms:modified xsi:type="dcterms:W3CDTF">2005-05-02T08:59:34Z</dcterms:modified>
  <cp:revision>174</cp:revision>
  <dc:subject>Introduction to MINA</dc:subject>
  <dc:title>Introduction to MINA</dc:title>
</cp:coreProperties>
</file>