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326B-5179-4121-B66B-3B80DF234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BEAB-8F98-4900-B20D-3683100C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E740-7AE7-4D46-BEC0-40E0AEF6D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DB1B-5584-414C-A2A3-AF6EF47C6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F83E-D973-422A-90DD-9A482B436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9080-FA9A-41F4-B600-E9CC3117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2423-B057-4587-8601-C4FB16A1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80AF-2D44-4402-A47B-9C5C21D3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87B2-D48B-4CD1-B26A-5F6EE08C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9ED4-94DF-4A93-A80E-044F8720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A2F8-E2BC-473F-9450-0FE2221A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BB30-0D49-4DEF-A2BA-32F1682F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E1FB-1428-41C8-B307-C3407B03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3246-930D-48B8-B266-E5EB7EB4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9156-1042-4EF5-BBA5-EEA4DDC5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17A3-2040-432E-BAA6-FD0B9A38A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99A6-D173-4305-BAF5-AA574DB6C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08E5-55D9-4234-BD90-D248F449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5719-2338-47FB-AD41-8334D99A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443A-0489-401C-83E2-A0D54510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2442-9EE3-4DC4-89F7-38421DFA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7FC5-7ADB-48A4-B124-2269FA4D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E526-609F-4001-96AD-F72828C7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5DF3-3C93-4ECD-91B8-9F5B06A5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slideLayout" Target="../slideLayouts/slideLayout1.xml"/><Relationship Id="rId47" Type="http://schemas.openxmlformats.org/officeDocument/2006/relationships/slideLayout" Target="../slideLayouts/slideLayout2.xml"/><Relationship Id="rId48" Type="http://schemas.openxmlformats.org/officeDocument/2006/relationships/slideLayout" Target="../slideLayouts/slideLayout3.xml"/><Relationship Id="rId49" Type="http://schemas.openxmlformats.org/officeDocument/2006/relationships/slideLayout" Target="../slideLayouts/slideLayout4.xml"/><Relationship Id="rId50" Type="http://schemas.openxmlformats.org/officeDocument/2006/relationships/slideLayout" Target="../slideLayouts/slideLayout5.xml"/><Relationship Id="rId51" Type="http://schemas.openxmlformats.org/officeDocument/2006/relationships/slideLayout" Target="../slideLayouts/slideLayout6.xml"/><Relationship Id="rId52" Type="http://schemas.openxmlformats.org/officeDocument/2006/relationships/slideLayout" Target="../slideLayouts/slideLayout7.xml"/><Relationship Id="rId53" Type="http://schemas.openxmlformats.org/officeDocument/2006/relationships/slideLayout" Target="../slideLayouts/slideLayout8.xml"/><Relationship Id="rId54" Type="http://schemas.openxmlformats.org/officeDocument/2006/relationships/slideLayout" Target="../slideLayouts/slideLayout9.xml"/><Relationship Id="rId55" Type="http://schemas.openxmlformats.org/officeDocument/2006/relationships/slideLayout" Target="../slideLayouts/slideLayout10.xml"/><Relationship Id="rId56" Type="http://schemas.openxmlformats.org/officeDocument/2006/relationships/slideLayout" Target="../slideLayouts/slideLayout11.xml"/><Relationship Id="rId5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slideLayout" Target="../slideLayouts/slideLayout13.xml"/><Relationship Id="rId47" Type="http://schemas.openxmlformats.org/officeDocument/2006/relationships/slideLayout" Target="../slideLayouts/slideLayout14.xml"/><Relationship Id="rId48" Type="http://schemas.openxmlformats.org/officeDocument/2006/relationships/slideLayout" Target="../slideLayouts/slideLayout15.xml"/><Relationship Id="rId49" Type="http://schemas.openxmlformats.org/officeDocument/2006/relationships/slideLayout" Target="../slideLayouts/slideLayout16.xml"/><Relationship Id="rId50" Type="http://schemas.openxmlformats.org/officeDocument/2006/relationships/slideLayout" Target="../slideLayouts/slideLayout17.xml"/><Relationship Id="rId51" Type="http://schemas.openxmlformats.org/officeDocument/2006/relationships/slideLayout" Target="../slideLayouts/slideLayout18.xml"/><Relationship Id="rId52" Type="http://schemas.openxmlformats.org/officeDocument/2006/relationships/slideLayout" Target="../slideLayouts/slideLayout19.xml"/><Relationship Id="rId53" Type="http://schemas.openxmlformats.org/officeDocument/2006/relationships/slideLayout" Target="../slideLayouts/slideLayout20.xml"/><Relationship Id="rId54" Type="http://schemas.openxmlformats.org/officeDocument/2006/relationships/slideLayout" Target="../slideLayouts/slideLayout21.xml"/><Relationship Id="rId55" Type="http://schemas.openxmlformats.org/officeDocument/2006/relationships/slideLayout" Target="../slideLayouts/slideLayout22.xml"/><Relationship Id="rId56" Type="http://schemas.openxmlformats.org/officeDocument/2006/relationships/slideLayout" Target="../slideLayouts/slideLayout23.xml"/><Relationship Id="rId5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535800"/>
            <a:ext cx="9143640" cy="303840"/>
            <a:chOff x="0" y="6535800"/>
            <a:chExt cx="9143640" cy="303840"/>
          </a:xfrm>
        </p:grpSpPr>
        <p:grpSp>
          <p:nvGrpSpPr>
            <p:cNvPr id="1" name=""/>
            <p:cNvGrpSpPr/>
            <p:nvPr/>
          </p:nvGrpSpPr>
          <p:grpSpPr>
            <a:xfrm>
              <a:off x="0" y="6535800"/>
              <a:ext cx="4571640" cy="303840"/>
              <a:chOff x="0" y="6535800"/>
              <a:chExt cx="4571640" cy="303840"/>
            </a:xfrm>
          </p:grpSpPr>
          <p:sp>
            <p:nvSpPr>
              <p:cNvPr id="2" name=""/>
              <p:cNvSpPr/>
              <p:nvPr/>
            </p:nvSpPr>
            <p:spPr>
              <a:xfrm>
                <a:off x="4267080" y="6543360"/>
                <a:ext cx="304560" cy="292680"/>
              </a:xfrm>
              <a:prstGeom prst="diamond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267080" y="6546960"/>
                <a:ext cx="304560" cy="292680"/>
              </a:xfrm>
              <a:prstGeom prst="diamond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62160" y="6543360"/>
                <a:ext cx="304920" cy="292680"/>
              </a:xfrm>
              <a:prstGeom prst="diamond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657600" y="6543360"/>
                <a:ext cx="304560" cy="292680"/>
              </a:xfrm>
              <a:prstGeom prst="diamond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3657600" y="6546960"/>
                <a:ext cx="304560" cy="292680"/>
              </a:xfrm>
              <a:prstGeom prst="diamond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3352680" y="6543360"/>
                <a:ext cx="304560" cy="292680"/>
              </a:xfrm>
              <a:prstGeom prst="diamond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47760" y="6539400"/>
                <a:ext cx="304920" cy="292680"/>
              </a:xfrm>
              <a:prstGeom prst="diamond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047760" y="6543360"/>
                <a:ext cx="304920" cy="292680"/>
              </a:xfrm>
              <a:prstGeom prst="diamond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2743200" y="6539400"/>
                <a:ext cx="304560" cy="292680"/>
              </a:xfrm>
              <a:prstGeom prst="diamond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438280" y="6539400"/>
                <a:ext cx="304560" cy="292680"/>
              </a:xfrm>
              <a:prstGeom prst="diamond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2438280" y="6543360"/>
                <a:ext cx="304560" cy="292680"/>
              </a:xfrm>
              <a:prstGeom prst="diamond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133360" y="6539400"/>
                <a:ext cx="304920" cy="292680"/>
              </a:xfrm>
              <a:prstGeom prst="diamond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523880" y="6539400"/>
                <a:ext cx="304560" cy="292680"/>
              </a:xfrm>
              <a:prstGeom prst="diamond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523880" y="6543360"/>
                <a:ext cx="304560" cy="292680"/>
              </a:xfrm>
              <a:prstGeom prst="diamond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218960" y="6539400"/>
                <a:ext cx="304920" cy="292680"/>
              </a:xfrm>
              <a:prstGeom prst="diamond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914400" y="6535800"/>
                <a:ext cx="304560" cy="292680"/>
              </a:xfrm>
              <a:prstGeom prst="diamond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914400" y="6539400"/>
                <a:ext cx="304560" cy="292680"/>
              </a:xfrm>
              <a:prstGeom prst="diamond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609480" y="6535800"/>
                <a:ext cx="304560" cy="292680"/>
              </a:xfrm>
              <a:prstGeom prst="diamond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04560" y="6535800"/>
                <a:ext cx="304920" cy="292680"/>
              </a:xfrm>
              <a:prstGeom prst="diamond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04560" y="6539400"/>
                <a:ext cx="304920" cy="292680"/>
              </a:xfrm>
              <a:prstGeom prst="diamond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6535800"/>
                <a:ext cx="304560" cy="292680"/>
              </a:xfrm>
              <a:prstGeom prst="diamond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828800" y="6543360"/>
                <a:ext cx="304560" cy="292680"/>
              </a:xfrm>
              <a:prstGeom prst="diamond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4572000" y="6535800"/>
              <a:ext cx="4571640" cy="303840"/>
              <a:chOff x="4572000" y="6535800"/>
              <a:chExt cx="4571640" cy="303840"/>
            </a:xfrm>
          </p:grpSpPr>
          <p:sp>
            <p:nvSpPr>
              <p:cNvPr id="25" name=""/>
              <p:cNvSpPr/>
              <p:nvPr/>
            </p:nvSpPr>
            <p:spPr>
              <a:xfrm>
                <a:off x="8839080" y="6543360"/>
                <a:ext cx="304560" cy="292680"/>
              </a:xfrm>
              <a:prstGeom prst="diamond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839080" y="6546960"/>
                <a:ext cx="304560" cy="292680"/>
              </a:xfrm>
              <a:prstGeom prst="diamond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534160" y="6543360"/>
                <a:ext cx="304560" cy="292680"/>
              </a:xfrm>
              <a:prstGeom prst="diamond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229240" y="6543360"/>
                <a:ext cx="304560" cy="292680"/>
              </a:xfrm>
              <a:prstGeom prst="diamond">
                <a:avLst/>
              </a:pr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229240" y="6546960"/>
                <a:ext cx="304560" cy="292680"/>
              </a:xfrm>
              <a:prstGeom prst="diamond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924680" y="6543360"/>
                <a:ext cx="304560" cy="292680"/>
              </a:xfrm>
              <a:prstGeom prst="diamond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19760" y="6539400"/>
                <a:ext cx="304560" cy="292680"/>
              </a:xfrm>
              <a:prstGeom prst="diamond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19760" y="6543360"/>
                <a:ext cx="304560" cy="292680"/>
              </a:xfrm>
              <a:prstGeom prst="diamond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314840" y="6539400"/>
                <a:ext cx="304560" cy="292680"/>
              </a:xfrm>
              <a:prstGeom prst="diamond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010280" y="6539400"/>
                <a:ext cx="304560" cy="292680"/>
              </a:xfrm>
              <a:prstGeom prst="diamond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010280" y="6543360"/>
                <a:ext cx="304560" cy="292680"/>
              </a:xfrm>
              <a:prstGeom prst="diamond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705360" y="6539400"/>
                <a:ext cx="304560" cy="292680"/>
              </a:xfrm>
              <a:prstGeom prst="diamond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6095880" y="6539400"/>
                <a:ext cx="304560" cy="292680"/>
              </a:xfrm>
              <a:prstGeom prst="diamond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6095880" y="6543360"/>
                <a:ext cx="304560" cy="292680"/>
              </a:xfrm>
              <a:prstGeom prst="diamond">
                <a:avLst/>
              </a:pr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90960" y="6539400"/>
                <a:ext cx="304560" cy="292680"/>
              </a:xfrm>
              <a:prstGeom prst="diamond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486040" y="6535800"/>
                <a:ext cx="304560" cy="292680"/>
              </a:xfrm>
              <a:prstGeom prst="diamond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486040" y="6539400"/>
                <a:ext cx="304560" cy="292680"/>
              </a:xfrm>
              <a:prstGeom prst="diamond">
                <a:avLst/>
              </a:pr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181480" y="6535800"/>
                <a:ext cx="304560" cy="292680"/>
              </a:xfrm>
              <a:prstGeom prst="diamond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4876560" y="6535800"/>
                <a:ext cx="304560" cy="292680"/>
              </a:xfrm>
              <a:prstGeom prst="diamond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876560" y="6539400"/>
                <a:ext cx="304560" cy="292680"/>
              </a:xfrm>
              <a:prstGeom prst="diamond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4572000" y="6535800"/>
                <a:ext cx="304560" cy="292680"/>
              </a:xfrm>
              <a:prstGeom prst="diamond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400440" y="6543360"/>
                <a:ext cx="304560" cy="292680"/>
              </a:xfrm>
              <a:prstGeom prst="diamond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47" name=""/>
          <p:cNvGrpSpPr/>
          <p:nvPr/>
        </p:nvGrpSpPr>
        <p:grpSpPr>
          <a:xfrm>
            <a:off x="609480" y="533520"/>
            <a:ext cx="7901280" cy="609480"/>
            <a:chOff x="609480" y="533520"/>
            <a:chExt cx="7901280" cy="609480"/>
          </a:xfrm>
        </p:grpSpPr>
        <p:sp>
          <p:nvSpPr>
            <p:cNvPr id="48" name=""/>
            <p:cNvSpPr/>
            <p:nvPr/>
          </p:nvSpPr>
          <p:spPr>
            <a:xfrm>
              <a:off x="762120" y="1143000"/>
              <a:ext cx="7619760" cy="0"/>
            </a:xfrm>
            <a:prstGeom prst="line">
              <a:avLst/>
            </a:prstGeom>
            <a:ln w="28440">
              <a:solidFill>
                <a:srgbClr val="eb93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609480" y="533520"/>
              <a:ext cx="638280" cy="506160"/>
              <a:chOff x="609480" y="533520"/>
              <a:chExt cx="638280" cy="506160"/>
            </a:xfrm>
          </p:grpSpPr>
          <p:sp>
            <p:nvSpPr>
              <p:cNvPr id="50" name=""/>
              <p:cNvSpPr/>
              <p:nvPr/>
            </p:nvSpPr>
            <p:spPr>
              <a:xfrm>
                <a:off x="789120" y="539640"/>
                <a:ext cx="304560" cy="50004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942840" y="538200"/>
                <a:ext cx="301680" cy="25092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74" y="157"/>
                    </a:moveTo>
                    <a:lnTo>
                      <a:pt x="196" y="158"/>
                    </a:lnTo>
                    <a:lnTo>
                      <a:pt x="11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42840" y="785880"/>
                <a:ext cx="304920" cy="250920"/>
              </a:xfrm>
              <a:custGeom>
                <a:avLst/>
                <a:gdLst/>
                <a:ahLst/>
                <a:rect l="l" t="t" r="r" b="b"/>
                <a:pathLst>
                  <a:path w="192" h="157">
                    <a:moveTo>
                      <a:pt x="73" y="1"/>
                    </a:moveTo>
                    <a:lnTo>
                      <a:pt x="192" y="0"/>
                    </a:lnTo>
                    <a:lnTo>
                      <a:pt x="113" y="157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09480" y="533520"/>
                <a:ext cx="216000" cy="50616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17480" y="538200"/>
                <a:ext cx="304920" cy="25092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69" y="158"/>
                    </a:moveTo>
                    <a:lnTo>
                      <a:pt x="196" y="158"/>
                    </a:lnTo>
                    <a:lnTo>
                      <a:pt x="1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4240" y="785880"/>
                <a:ext cx="308160" cy="253800"/>
              </a:xfrm>
              <a:custGeom>
                <a:avLst/>
                <a:gdLst/>
                <a:ahLst/>
                <a:rect l="l" t="t" r="r" b="b"/>
                <a:pathLst>
                  <a:path w="194" h="158">
                    <a:moveTo>
                      <a:pt x="67" y="0"/>
                    </a:moveTo>
                    <a:lnTo>
                      <a:pt x="194" y="0"/>
                    </a:lnTo>
                    <a:lnTo>
                      <a:pt x="120" y="158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47640" y="623880"/>
                <a:ext cx="136440" cy="162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4" y="0"/>
                    </a:moveTo>
                    <a:lnTo>
                      <a:pt x="0" y="102"/>
                    </a:lnTo>
                    <a:lnTo>
                      <a:pt x="86" y="10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47640" y="785880"/>
                <a:ext cx="136440" cy="162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2" y="102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7872480" y="533520"/>
              <a:ext cx="638280" cy="506160"/>
              <a:chOff x="7872480" y="533520"/>
              <a:chExt cx="638280" cy="506160"/>
            </a:xfrm>
          </p:grpSpPr>
          <p:sp>
            <p:nvSpPr>
              <p:cNvPr id="59" name=""/>
              <p:cNvSpPr/>
              <p:nvPr/>
            </p:nvSpPr>
            <p:spPr>
              <a:xfrm>
                <a:off x="8052120" y="539640"/>
                <a:ext cx="304560" cy="50004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205840" y="538200"/>
                <a:ext cx="301680" cy="25092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74" y="157"/>
                    </a:moveTo>
                    <a:lnTo>
                      <a:pt x="196" y="158"/>
                    </a:lnTo>
                    <a:lnTo>
                      <a:pt x="11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205840" y="785880"/>
                <a:ext cx="304920" cy="250920"/>
              </a:xfrm>
              <a:custGeom>
                <a:avLst/>
                <a:gdLst/>
                <a:ahLst/>
                <a:rect l="l" t="t" r="r" b="b"/>
                <a:pathLst>
                  <a:path w="192" h="157">
                    <a:moveTo>
                      <a:pt x="73" y="1"/>
                    </a:moveTo>
                    <a:lnTo>
                      <a:pt x="192" y="0"/>
                    </a:lnTo>
                    <a:lnTo>
                      <a:pt x="113" y="157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872480" y="533520"/>
                <a:ext cx="216000" cy="50616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980480" y="538200"/>
                <a:ext cx="304920" cy="25092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69" y="158"/>
                    </a:moveTo>
                    <a:lnTo>
                      <a:pt x="196" y="158"/>
                    </a:lnTo>
                    <a:lnTo>
                      <a:pt x="1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977240" y="785880"/>
                <a:ext cx="308160" cy="253800"/>
              </a:xfrm>
              <a:custGeom>
                <a:avLst/>
                <a:gdLst/>
                <a:ahLst/>
                <a:rect l="l" t="t" r="r" b="b"/>
                <a:pathLst>
                  <a:path w="194" h="158">
                    <a:moveTo>
                      <a:pt x="67" y="0"/>
                    </a:moveTo>
                    <a:lnTo>
                      <a:pt x="194" y="0"/>
                    </a:lnTo>
                    <a:lnTo>
                      <a:pt x="120" y="158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910640" y="623880"/>
                <a:ext cx="136440" cy="162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4" y="0"/>
                    </a:moveTo>
                    <a:lnTo>
                      <a:pt x="0" y="102"/>
                    </a:lnTo>
                    <a:lnTo>
                      <a:pt x="86" y="10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910640" y="785880"/>
                <a:ext cx="136440" cy="162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2" y="102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751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2" marL="1293840" indent="-403200">
              <a:spcBef>
                <a:spcPts val="751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3" marL="1681200" indent="-385920">
              <a:spcBef>
                <a:spcPts val="751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4" marL="2070000" indent="-387360">
              <a:spcBef>
                <a:spcPts val="751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5" marL="2070000" indent="-3873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6" marL="2070000" indent="-3873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84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EA7A-48D8-41A0-9B76-A410A54B27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6"/>
    <p:sldLayoutId id="2147483650" r:id="rId47"/>
    <p:sldLayoutId id="2147483651" r:id="rId48"/>
    <p:sldLayoutId id="2147483652" r:id="rId49"/>
    <p:sldLayoutId id="2147483653" r:id="rId50"/>
    <p:sldLayoutId id="2147483654" r:id="rId51"/>
    <p:sldLayoutId id="2147483655" r:id="rId52"/>
    <p:sldLayoutId id="2147483656" r:id="rId53"/>
    <p:sldLayoutId id="2147483657" r:id="rId54"/>
    <p:sldLayoutId id="2147483658" r:id="rId55"/>
    <p:sldLayoutId id="2147483659" r:id="rId56"/>
    <p:sldLayoutId id="2147483660" r:id="rId5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0" y="6505560"/>
            <a:ext cx="9143640" cy="304200"/>
            <a:chOff x="0" y="6505560"/>
            <a:chExt cx="9143640" cy="304200"/>
          </a:xfrm>
        </p:grpSpPr>
        <p:grpSp>
          <p:nvGrpSpPr>
            <p:cNvPr id="109" name=""/>
            <p:cNvGrpSpPr/>
            <p:nvPr/>
          </p:nvGrpSpPr>
          <p:grpSpPr>
            <a:xfrm>
              <a:off x="0" y="6505560"/>
              <a:ext cx="4571640" cy="304200"/>
              <a:chOff x="0" y="6505560"/>
              <a:chExt cx="4571640" cy="304200"/>
            </a:xfrm>
          </p:grpSpPr>
          <p:sp>
            <p:nvSpPr>
              <p:cNvPr id="110" name=""/>
              <p:cNvSpPr/>
              <p:nvPr/>
            </p:nvSpPr>
            <p:spPr>
              <a:xfrm>
                <a:off x="4267080" y="6513120"/>
                <a:ext cx="304560" cy="293040"/>
              </a:xfrm>
              <a:prstGeom prst="diamond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267080" y="6516720"/>
                <a:ext cx="304560" cy="293040"/>
              </a:xfrm>
              <a:prstGeom prst="diamond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962160" y="6513120"/>
                <a:ext cx="304920" cy="293040"/>
              </a:xfrm>
              <a:prstGeom prst="diamond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657600" y="6513120"/>
                <a:ext cx="304560" cy="293040"/>
              </a:xfrm>
              <a:prstGeom prst="diamond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657600" y="6516720"/>
                <a:ext cx="304560" cy="293040"/>
              </a:xfrm>
              <a:prstGeom prst="diamond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352680" y="6513120"/>
                <a:ext cx="304560" cy="293040"/>
              </a:xfrm>
              <a:prstGeom prst="diamond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047760" y="6509160"/>
                <a:ext cx="304920" cy="293040"/>
              </a:xfrm>
              <a:prstGeom prst="diamond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047760" y="6513120"/>
                <a:ext cx="304920" cy="293040"/>
              </a:xfrm>
              <a:prstGeom prst="diamond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743200" y="6509160"/>
                <a:ext cx="304560" cy="293040"/>
              </a:xfrm>
              <a:prstGeom prst="diamond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438280" y="6509160"/>
                <a:ext cx="304560" cy="293040"/>
              </a:xfrm>
              <a:prstGeom prst="diamond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438280" y="6513120"/>
                <a:ext cx="304560" cy="293040"/>
              </a:xfrm>
              <a:prstGeom prst="diamond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33360" y="6509160"/>
                <a:ext cx="304920" cy="293040"/>
              </a:xfrm>
              <a:prstGeom prst="diamond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523880" y="6509160"/>
                <a:ext cx="304560" cy="293040"/>
              </a:xfrm>
              <a:prstGeom prst="diamond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523880" y="6513120"/>
                <a:ext cx="304560" cy="293040"/>
              </a:xfrm>
              <a:prstGeom prst="diamond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218960" y="6509160"/>
                <a:ext cx="304920" cy="293040"/>
              </a:xfrm>
              <a:prstGeom prst="diamond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914400" y="6505560"/>
                <a:ext cx="304560" cy="293040"/>
              </a:xfrm>
              <a:prstGeom prst="diamond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914400" y="6509160"/>
                <a:ext cx="304560" cy="293040"/>
              </a:xfrm>
              <a:prstGeom prst="diamond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09480" y="6505560"/>
                <a:ext cx="304560" cy="293040"/>
              </a:xfrm>
              <a:prstGeom prst="diamond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04560" y="6505560"/>
                <a:ext cx="304920" cy="293040"/>
              </a:xfrm>
              <a:prstGeom prst="diamond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04560" y="6509160"/>
                <a:ext cx="304920" cy="293040"/>
              </a:xfrm>
              <a:prstGeom prst="diamond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6505560"/>
                <a:ext cx="304560" cy="293040"/>
              </a:xfrm>
              <a:prstGeom prst="diamond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828800" y="6513120"/>
                <a:ext cx="304560" cy="293040"/>
              </a:xfrm>
              <a:prstGeom prst="diamond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4572000" y="6505560"/>
              <a:ext cx="4571640" cy="304200"/>
              <a:chOff x="4572000" y="6505560"/>
              <a:chExt cx="4571640" cy="304200"/>
            </a:xfrm>
          </p:grpSpPr>
          <p:sp>
            <p:nvSpPr>
              <p:cNvPr id="133" name=""/>
              <p:cNvSpPr/>
              <p:nvPr/>
            </p:nvSpPr>
            <p:spPr>
              <a:xfrm>
                <a:off x="8839080" y="6513120"/>
                <a:ext cx="304560" cy="293040"/>
              </a:xfrm>
              <a:prstGeom prst="diamond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8839080" y="6516720"/>
                <a:ext cx="304560" cy="293040"/>
              </a:xfrm>
              <a:prstGeom prst="diamond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534160" y="6513120"/>
                <a:ext cx="304560" cy="293040"/>
              </a:xfrm>
              <a:prstGeom prst="diamond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229240" y="6513120"/>
                <a:ext cx="304560" cy="293040"/>
              </a:xfrm>
              <a:prstGeom prst="diamond">
                <a:avLst/>
              </a:pr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229240" y="6516720"/>
                <a:ext cx="304560" cy="293040"/>
              </a:xfrm>
              <a:prstGeom prst="diamond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924680" y="6513120"/>
                <a:ext cx="304560" cy="293040"/>
              </a:xfrm>
              <a:prstGeom prst="diamond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619760" y="6509160"/>
                <a:ext cx="304560" cy="293040"/>
              </a:xfrm>
              <a:prstGeom prst="diamond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619760" y="6513120"/>
                <a:ext cx="304560" cy="293040"/>
              </a:xfrm>
              <a:prstGeom prst="diamond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314840" y="6509160"/>
                <a:ext cx="304560" cy="293040"/>
              </a:xfrm>
              <a:prstGeom prst="diamond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010280" y="6509160"/>
                <a:ext cx="304560" cy="293040"/>
              </a:xfrm>
              <a:prstGeom prst="diamond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010280" y="6513120"/>
                <a:ext cx="304560" cy="293040"/>
              </a:xfrm>
              <a:prstGeom prst="diamond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705360" y="6509160"/>
                <a:ext cx="304560" cy="293040"/>
              </a:xfrm>
              <a:prstGeom prst="diamond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095880" y="6509160"/>
                <a:ext cx="304560" cy="293040"/>
              </a:xfrm>
              <a:prstGeom prst="diamond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5880" y="6513120"/>
                <a:ext cx="304560" cy="293040"/>
              </a:xfrm>
              <a:prstGeom prst="diamond">
                <a:avLst/>
              </a:pr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90960" y="6509160"/>
                <a:ext cx="304560" cy="293040"/>
              </a:xfrm>
              <a:prstGeom prst="diamond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486040" y="6505560"/>
                <a:ext cx="304560" cy="293040"/>
              </a:xfrm>
              <a:prstGeom prst="diamond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486040" y="6509160"/>
                <a:ext cx="304560" cy="293040"/>
              </a:xfrm>
              <a:prstGeom prst="diamond">
                <a:avLst/>
              </a:pr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181480" y="6505560"/>
                <a:ext cx="304560" cy="293040"/>
              </a:xfrm>
              <a:prstGeom prst="diamond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876560" y="6505560"/>
                <a:ext cx="304560" cy="293040"/>
              </a:xfrm>
              <a:prstGeom prst="diamond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876560" y="6509160"/>
                <a:ext cx="304560" cy="293040"/>
              </a:xfrm>
              <a:prstGeom prst="diamond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572000" y="6505560"/>
                <a:ext cx="304560" cy="293040"/>
              </a:xfrm>
              <a:prstGeom prst="diamond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400440" y="6513120"/>
                <a:ext cx="304560" cy="293040"/>
              </a:xfrm>
              <a:prstGeom prst="diamond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55" name=""/>
          <p:cNvGrpSpPr/>
          <p:nvPr/>
        </p:nvGrpSpPr>
        <p:grpSpPr>
          <a:xfrm>
            <a:off x="609480" y="2362320"/>
            <a:ext cx="7925040" cy="761760"/>
            <a:chOff x="609480" y="2362320"/>
            <a:chExt cx="7925040" cy="761760"/>
          </a:xfrm>
        </p:grpSpPr>
        <p:sp>
          <p:nvSpPr>
            <p:cNvPr id="156" name=""/>
            <p:cNvSpPr/>
            <p:nvPr/>
          </p:nvSpPr>
          <p:spPr>
            <a:xfrm>
              <a:off x="766800" y="2362320"/>
              <a:ext cx="7599240" cy="0"/>
            </a:xfrm>
            <a:prstGeom prst="line">
              <a:avLst/>
            </a:prstGeom>
            <a:ln w="28440">
              <a:solidFill>
                <a:srgbClr val="f3c9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6800" y="3124080"/>
              <a:ext cx="7599240" cy="0"/>
            </a:xfrm>
            <a:prstGeom prst="line">
              <a:avLst/>
            </a:prstGeom>
            <a:ln w="28440">
              <a:solidFill>
                <a:srgbClr val="eb93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609480" y="2401920"/>
              <a:ext cx="804960" cy="676080"/>
              <a:chOff x="609480" y="2401920"/>
              <a:chExt cx="804960" cy="676080"/>
            </a:xfrm>
          </p:grpSpPr>
          <p:sp>
            <p:nvSpPr>
              <p:cNvPr id="159" name=""/>
              <p:cNvSpPr/>
              <p:nvPr/>
            </p:nvSpPr>
            <p:spPr>
              <a:xfrm>
                <a:off x="836640" y="2409840"/>
                <a:ext cx="384120" cy="66816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030320" y="2401920"/>
                <a:ext cx="384120" cy="34128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74" y="157"/>
                    </a:moveTo>
                    <a:lnTo>
                      <a:pt x="196" y="158"/>
                    </a:lnTo>
                    <a:lnTo>
                      <a:pt x="11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030320" y="2738520"/>
                <a:ext cx="384120" cy="334800"/>
              </a:xfrm>
              <a:custGeom>
                <a:avLst/>
                <a:gdLst/>
                <a:ahLst/>
                <a:rect l="l" t="t" r="r" b="b"/>
                <a:pathLst>
                  <a:path w="192" h="157">
                    <a:moveTo>
                      <a:pt x="73" y="1"/>
                    </a:moveTo>
                    <a:lnTo>
                      <a:pt x="192" y="0"/>
                    </a:lnTo>
                    <a:lnTo>
                      <a:pt x="113" y="157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09480" y="2401920"/>
                <a:ext cx="273240" cy="67608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46280" y="2408400"/>
                <a:ext cx="384120" cy="33480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69" y="158"/>
                    </a:moveTo>
                    <a:lnTo>
                      <a:pt x="196" y="158"/>
                    </a:lnTo>
                    <a:lnTo>
                      <a:pt x="1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41240" y="2738520"/>
                <a:ext cx="389160" cy="334800"/>
              </a:xfrm>
              <a:custGeom>
                <a:avLst/>
                <a:gdLst/>
                <a:ahLst/>
                <a:rect l="l" t="t" r="r" b="b"/>
                <a:pathLst>
                  <a:path w="194" h="158">
                    <a:moveTo>
                      <a:pt x="67" y="0"/>
                    </a:moveTo>
                    <a:lnTo>
                      <a:pt x="194" y="0"/>
                    </a:lnTo>
                    <a:lnTo>
                      <a:pt x="120" y="158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57360" y="2522520"/>
                <a:ext cx="172800" cy="216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4" y="0"/>
                    </a:moveTo>
                    <a:lnTo>
                      <a:pt x="0" y="102"/>
                    </a:lnTo>
                    <a:lnTo>
                      <a:pt x="86" y="10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57360" y="2738520"/>
                <a:ext cx="172800" cy="21744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2" y="102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7770960" y="2401920"/>
              <a:ext cx="763560" cy="676080"/>
              <a:chOff x="7770960" y="2401920"/>
              <a:chExt cx="763560" cy="676080"/>
            </a:xfrm>
          </p:grpSpPr>
          <p:sp>
            <p:nvSpPr>
              <p:cNvPr id="168" name=""/>
              <p:cNvSpPr/>
              <p:nvPr/>
            </p:nvSpPr>
            <p:spPr>
              <a:xfrm>
                <a:off x="7985160" y="2409840"/>
                <a:ext cx="365040" cy="66816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169120" y="2409840"/>
                <a:ext cx="365400" cy="33336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74" y="157"/>
                    </a:moveTo>
                    <a:lnTo>
                      <a:pt x="196" y="158"/>
                    </a:lnTo>
                    <a:lnTo>
                      <a:pt x="11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169120" y="2738520"/>
                <a:ext cx="365400" cy="334800"/>
              </a:xfrm>
              <a:custGeom>
                <a:avLst/>
                <a:gdLst/>
                <a:ahLst/>
                <a:rect l="l" t="t" r="r" b="b"/>
                <a:pathLst>
                  <a:path w="192" h="157">
                    <a:moveTo>
                      <a:pt x="73" y="1"/>
                    </a:moveTo>
                    <a:lnTo>
                      <a:pt x="192" y="0"/>
                    </a:lnTo>
                    <a:lnTo>
                      <a:pt x="113" y="157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770960" y="2401920"/>
                <a:ext cx="258480" cy="67608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899480" y="2408400"/>
                <a:ext cx="365040" cy="33480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69" y="158"/>
                    </a:moveTo>
                    <a:lnTo>
                      <a:pt x="196" y="158"/>
                    </a:lnTo>
                    <a:lnTo>
                      <a:pt x="1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896240" y="2738520"/>
                <a:ext cx="368280" cy="334800"/>
              </a:xfrm>
              <a:custGeom>
                <a:avLst/>
                <a:gdLst/>
                <a:ahLst/>
                <a:rect l="l" t="t" r="r" b="b"/>
                <a:pathLst>
                  <a:path w="194" h="158">
                    <a:moveTo>
                      <a:pt x="67" y="0"/>
                    </a:moveTo>
                    <a:lnTo>
                      <a:pt x="194" y="0"/>
                    </a:lnTo>
                    <a:lnTo>
                      <a:pt x="120" y="158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816680" y="2522520"/>
                <a:ext cx="163800" cy="216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4" y="0"/>
                    </a:moveTo>
                    <a:lnTo>
                      <a:pt x="0" y="102"/>
                    </a:lnTo>
                    <a:lnTo>
                      <a:pt x="86" y="10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816680" y="2738520"/>
                <a:ext cx="163800" cy="21744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2" y="102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4"/>
          </p:nvPr>
        </p:nvSpPr>
        <p:spPr>
          <a:xfrm>
            <a:off x="45684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84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F469-7FFA-4946-B766-967DDAAC44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70360" y="1058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890640" algn="ctr">
              <a:spcBef>
                <a:spcPts val="550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295280" algn="ctr">
              <a:spcBef>
                <a:spcPts val="49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682640" algn="ctr">
              <a:spcBef>
                <a:spcPts val="451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6826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6826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6"/>
    <p:sldLayoutId id="2147483663" r:id="rId47"/>
    <p:sldLayoutId id="2147483664" r:id="rId48"/>
    <p:sldLayoutId id="2147483665" r:id="rId49"/>
    <p:sldLayoutId id="2147483666" r:id="rId50"/>
    <p:sldLayoutId id="2147483667" r:id="rId51"/>
    <p:sldLayoutId id="2147483668" r:id="rId52"/>
    <p:sldLayoutId id="2147483669" r:id="rId53"/>
    <p:sldLayoutId id="2147483670" r:id="rId54"/>
    <p:sldLayoutId id="2147483671" r:id="rId55"/>
    <p:sldLayoutId id="2147483672" r:id="rId56"/>
    <p:sldLayoutId id="2147483673" r:id="rId5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directory.apache.org/" TargetMode="External"/><Relationship Id="rId2" Type="http://schemas.openxmlformats.org/officeDocument/2006/relationships/hyperlink" Target="http://directory.apache.org/subprojects/network" TargetMode="External"/><Relationship Id="rId3" Type="http://schemas.openxmlformats.org/officeDocument/2006/relationships/hyperlink" Target="mailto:dev@directory.apache.org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Introduction to MINA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979560" y="3573360"/>
            <a:ext cx="64008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ultipurpos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frastru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twork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Tahoma"/>
              </a:rPr>
              <a:t>      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plicat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1332000" y="5805360"/>
            <a:ext cx="6400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ril 2005, Trustin Lee, ASF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What MINA Does For You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spcAft>
                <a:spcPts val="1125"/>
              </a:spcAft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You NEVER need to program..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975"/>
              </a:spcBef>
              <a:spcAft>
                <a:spcPts val="975"/>
              </a:spcAft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tream I/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975"/>
              </a:spcBef>
              <a:spcAft>
                <a:spcPts val="975"/>
              </a:spcAft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I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975"/>
              </a:spcBef>
              <a:spcAft>
                <a:spcPts val="975"/>
              </a:spcAft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read managemen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975"/>
              </a:spcBef>
              <a:spcAft>
                <a:spcPts val="975"/>
              </a:spcAft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Buffer managemen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4784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because it does ALL of them for you!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784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en what do you have to do?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What You Should Do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ahoma"/>
              </a:rPr>
              <a:t>The first way to implement your protocol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Using </a:t>
            </a:r>
            <a:r>
              <a:rPr b="1" lang="ko-KR" sz="2600" spc="-1" strike="noStrike">
                <a:solidFill>
                  <a:srgbClr val="000000"/>
                </a:solidFill>
                <a:latin typeface="Tahoma"/>
              </a:rPr>
              <a:t>I/O Layer</a:t>
            </a: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Courier New"/>
              </a:rPr>
              <a:t>IoHandle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93840" indent="-403200">
              <a:spcBef>
                <a:spcPts val="550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ahoma"/>
              </a:rPr>
              <a:t>You communicate by reading and writing data buff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ahoma"/>
              </a:rPr>
              <a:t>What You Should Do (Cont’d)</a:t>
            </a:r>
            <a:endParaRPr b="1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898560" y="1484280"/>
            <a:ext cx="72738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ahoma"/>
              </a:rPr>
              <a:t>What You Should Do (Cont’d)</a:t>
            </a:r>
            <a:endParaRPr b="1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9840" indent="-429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ahoma"/>
              </a:rPr>
              <a:t>The second way to implement your protocol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53200" indent="-42192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Using </a:t>
            </a:r>
            <a:r>
              <a:rPr b="1" lang="ko-KR" sz="2600" spc="-1" strike="noStrike">
                <a:solidFill>
                  <a:srgbClr val="000000"/>
                </a:solidFill>
                <a:latin typeface="Tahoma"/>
              </a:rPr>
              <a:t>Protocol Layer</a:t>
            </a: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ko-KR" sz="2600" spc="-1" strike="noStrike">
                <a:solidFill>
                  <a:srgbClr val="000000"/>
                </a:solidFill>
                <a:latin typeface="Courier New"/>
              </a:rPr>
              <a:t>ProtocolProvide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42000" indent="-387000">
              <a:spcBef>
                <a:spcPts val="1100"/>
              </a:spcBef>
              <a:spcAft>
                <a:spcPts val="1100"/>
              </a:spcAft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ahoma"/>
              </a:rPr>
              <a:t>You communicate by exchanging objects (POJO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242000" indent="-387000">
              <a:spcBef>
                <a:spcPts val="1100"/>
              </a:spcBef>
              <a:spcAft>
                <a:spcPts val="1100"/>
              </a:spcAft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ahoma"/>
              </a:rPr>
              <a:t>Your codec performs transformations between</a:t>
            </a:r>
            <a:br>
              <a:rPr sz="2200"/>
            </a:br>
            <a:r>
              <a:rPr b="0" lang="ko-KR" sz="2200" spc="-1" strike="noStrike">
                <a:solidFill>
                  <a:srgbClr val="000000"/>
                </a:solidFill>
                <a:latin typeface="Tahoma"/>
              </a:rPr>
              <a:t>data buffers and message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13880" indent="-370440">
              <a:spcBef>
                <a:spcPts val="49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Reus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13880" indent="-370440">
              <a:spcBef>
                <a:spcPts val="499"/>
              </a:spcBef>
              <a:spcAft>
                <a:spcPts val="1500"/>
              </a:spcAft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Pluggable (thanks to polymorphis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42000" indent="-387000">
              <a:spcBef>
                <a:spcPts val="1100"/>
              </a:spcBef>
              <a:spcAft>
                <a:spcPts val="1100"/>
              </a:spcAft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ahoma"/>
              </a:rPr>
              <a:t>You take full advantage of OOP for message objec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13880" indent="-370440">
              <a:spcBef>
                <a:spcPts val="49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nheri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ahoma"/>
              </a:rPr>
              <a:t>What You Should Do (Cont’d)</a:t>
            </a:r>
            <a:endParaRPr b="1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>
            <a:off x="1044720" y="13986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52360" y="1268280"/>
            <a:ext cx="8640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Filter Mechanism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Architecture (with Filters)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763640" y="1208160"/>
          <a:ext cx="6411960" cy="55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208160"/>
                    <a:ext cx="6411960" cy="55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2209680" y="2766960"/>
            <a:ext cx="4233960" cy="3747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311720" y="4883040"/>
            <a:ext cx="2131920" cy="3747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What is Filter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-43416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ahoma"/>
              </a:rPr>
              <a:t>A reusable event interceptor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42624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Similar to Servlet filte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341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34160" indent="-43416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ahoma"/>
              </a:rPr>
              <a:t>Can be added and removed “on-the-fly”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341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34160" indent="-43416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ahoma"/>
              </a:rPr>
              <a:t>Works in both coarse- and fine-grained way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42624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Per Server Por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42624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Per Individual Ses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Filter Use Cases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-438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ahoma"/>
              </a:rPr>
              <a:t>Implemented filters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70840" indent="-430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Thread pool (= customizable thread model!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70840" indent="-430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SS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70840" indent="-430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Client blacklisting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792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38840" indent="-438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ahoma"/>
              </a:rPr>
              <a:t>Coming soon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70840" indent="-430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Logging, Profiling, StartTLS, Peak Point Control, Traffic throttling, Firewall, and many more ..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70840" indent="-430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Any contributions are welcome!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Filter Use Cases (Cont’d)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Tahoma"/>
              </a:rPr>
              <a:t>Customizable thread model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MINA runs in single thread mode by defaul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93840" indent="-403200">
              <a:spcBef>
                <a:spcPts val="550"/>
              </a:spcBef>
              <a:buClr>
                <a:srgbClr val="eb933b"/>
              </a:buClr>
              <a:buSzPct val="80000"/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ahoma"/>
              </a:rPr>
              <a:t>Good for low-latency app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2938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Add a </a:t>
            </a:r>
            <a:r>
              <a:rPr b="1" lang="ko-KR" sz="2600" spc="-1" strike="noStrike">
                <a:solidFill>
                  <a:srgbClr val="000000"/>
                </a:solidFill>
                <a:latin typeface="Courier New"/>
              </a:rPr>
              <a:t>ThreadPoolFilter</a:t>
            </a:r>
            <a:r>
              <a:rPr b="0" lang="ko-KR" sz="2600" spc="-1" strike="noStrike">
                <a:solidFill>
                  <a:srgbClr val="000000"/>
                </a:solidFill>
                <a:latin typeface="Tahoma"/>
              </a:rPr>
              <a:t> to make MINA  multi-threade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93840" indent="-403200">
              <a:spcBef>
                <a:spcPts val="550"/>
              </a:spcBef>
              <a:buClr>
                <a:srgbClr val="eb933b"/>
              </a:buClr>
              <a:buSzPct val="80000"/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ahoma"/>
              </a:rPr>
              <a:t>Good for high-scalability app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Contents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How to Program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ilter Mechanism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Proof of Productivity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Architecture Review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Proof of Productivity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Comparison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55280" y="4508640"/>
            <a:ext cx="75596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ahoma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) A Core Java Tech Tips 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550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00% CPU consumption while socket buffer is full. (doesn’t register for OP_WRIT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550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SL support (never trivia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755640" y="1557360"/>
          <a:ext cx="7416720" cy="2508120"/>
        </p:xfrm>
        <a:graphic>
          <a:graphicData uri="http://schemas.openxmlformats.org/drawingml/2006/table">
            <a:tbl>
              <a:tblPr/>
              <a:tblGrid>
                <a:gridCol w="2303640"/>
                <a:gridCol w="2160360"/>
                <a:gridCol w="29527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ain NI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N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cho serve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 lines</a:t>
                      </a: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*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 lines (</a:t>
                      </a:r>
                      <a:r>
                        <a:rPr b="0" lang="en-US" sz="2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5%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usabilit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o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l reusable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ilters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</a:t>
                      </a:r>
                      <a:r>
                        <a:rPr b="0" lang="ko-KR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Codecs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</a:t>
                      </a:r>
                      <a:r>
                        <a:rPr b="0" lang="ko-KR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Handl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intainabilit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o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y goo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More Complex Protocols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468360" y="1484280"/>
            <a:ext cx="822960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Even echo server is hard to maintain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100000"/>
              </a:lnSpc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Writing complex protocols with plain NIO is the beginning of your nightmare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100000"/>
              </a:lnSpc>
              <a:spcBef>
                <a:spcPts val="299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MINA Protocol Layer is your cozy pillow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100000"/>
              </a:lnSpc>
              <a:spcBef>
                <a:spcPts val="22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Known implementations: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942840" y="4581360"/>
          <a:ext cx="4176720" cy="1440000"/>
        </p:xfrm>
        <a:graphic>
          <a:graphicData uri="http://schemas.openxmlformats.org/drawingml/2006/table">
            <a:tbl>
              <a:tblPr/>
              <a:tblGrid>
                <a:gridCol w="2012760"/>
                <a:gridCol w="2163960"/>
              </a:tblGrid>
              <a:tr h="14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bb9321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DA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bb9321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MT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bb9321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N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bb9321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erbero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bb9321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MAPv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bb9321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T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Architecture Review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Architecture Review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1763640" y="1208160"/>
          <a:ext cx="6411960" cy="55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208160"/>
                    <a:ext cx="6411960" cy="55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Conclusion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Conclusion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78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MINA i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78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a flexible and extensibl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78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network application framework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78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at boosts developer productivity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How to Contribute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MINA is a subproject of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000" spc="-1" strike="noStrike" u="sng">
                <a:solidFill>
                  <a:srgbClr val="bb9321"/>
                </a:solidFill>
                <a:uFillTx/>
                <a:latin typeface="Tahoma"/>
                <a:hlinkClick r:id="rId1"/>
              </a:rPr>
              <a:t>the Apache Directory Projec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omepage:</a:t>
            </a:r>
            <a:br>
              <a:rPr sz="2600"/>
            </a:br>
            <a:r>
              <a:rPr b="0" lang="en-US" sz="2600" spc="-1" strike="noStrike" u="sng">
                <a:solidFill>
                  <a:srgbClr val="bb9321"/>
                </a:solidFill>
                <a:uFillTx/>
                <a:latin typeface="Tahoma"/>
                <a:hlinkClick r:id="rId2"/>
              </a:rPr>
              <a:t>http://directory.apache.org/subprojects/network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ailing List:</a:t>
            </a:r>
            <a:br>
              <a:rPr sz="2600"/>
            </a:br>
            <a:r>
              <a:rPr b="0" lang="en-US" sz="2600" spc="-1" strike="noStrike" u="sng">
                <a:solidFill>
                  <a:srgbClr val="bb9321"/>
                </a:solidFill>
                <a:uFillTx/>
                <a:latin typeface="Tahoma"/>
                <a:hlinkClick r:id="rId3"/>
              </a:rPr>
              <a:t>dev@directory.apache.org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 (Use ‘[mina]’ prefix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Overview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What is MINA?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A network application framework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1950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eature-rich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tensib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signed for agile client/server programming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93840" indent="-403200">
              <a:spcBef>
                <a:spcPts val="1650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ent- or server-less unit test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293840" indent="-403200">
              <a:spcBef>
                <a:spcPts val="550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ery high reusability and maintainabi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Yet scalable / high performanc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ahoma"/>
              </a:rPr>
              <a:t>Architecture: I/O Layer</a:t>
            </a:r>
            <a:endParaRPr b="1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5271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550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ahoma"/>
              </a:rPr>
              <a:t>MINA abstracts all low-level I/O via abstract API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550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Courier New"/>
              </a:rPr>
              <a:t>IoHandler</a:t>
            </a:r>
            <a:r>
              <a:rPr b="0" lang="ko-KR" sz="2200" spc="-1" strike="noStrike">
                <a:solidFill>
                  <a:srgbClr val="000000"/>
                </a:solidFill>
                <a:latin typeface="Tahoma"/>
              </a:rPr>
              <a:t>s get notified when I/O events occu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550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ahoma"/>
              </a:rPr>
              <a:t>You communicate by reading and writing data buff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042920" y="1557360"/>
          <a:ext cx="7345440" cy="337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557360"/>
                    <a:ext cx="7345440" cy="33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1085760" y="2924280"/>
            <a:ext cx="3946680" cy="649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1085760" y="4235400"/>
            <a:ext cx="3946680" cy="649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ahoma"/>
              </a:rPr>
              <a:t>Architecture: Protocol Layer</a:t>
            </a:r>
            <a:endParaRPr b="1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476360" y="1268280"/>
          <a:ext cx="6840720" cy="39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268280"/>
                    <a:ext cx="6840720" cy="39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4254480" y="2924280"/>
            <a:ext cx="2203560" cy="1009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2008080" y="4221000"/>
            <a:ext cx="4465800" cy="1008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360" y="5271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-398520">
              <a:lnSpc>
                <a:spcPct val="90000"/>
              </a:lnSpc>
              <a:spcBef>
                <a:spcPts val="550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ilt upon I/O lay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98520" indent="-398520">
              <a:lnSpc>
                <a:spcPct val="90000"/>
              </a:lnSpc>
              <a:spcBef>
                <a:spcPts val="550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ood when you implement complex protoco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98520" indent="-398520">
              <a:lnSpc>
                <a:spcPct val="90000"/>
              </a:lnSpc>
              <a:spcBef>
                <a:spcPts val="550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ommunicate by sending and receiving message objects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MINA Abstract API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ingle API for various transport typ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Highly extensibl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Unit-test your server using mock objects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o real clients anymore!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MINA Abstract API (Cont’d)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Once a protocol implemented, it works for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879840" indent="-43488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IO socke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80880" indent="-398880">
              <a:spcBef>
                <a:spcPts val="550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CP/IP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280880" indent="-398880">
              <a:spcBef>
                <a:spcPts val="550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DP/I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79840" indent="-43488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In-VM pip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79840" indent="-43488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ming soon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80880" indent="-398880">
              <a:spcBef>
                <a:spcPts val="550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n-NIO socke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280880" indent="-398880">
              <a:spcBef>
                <a:spcPts val="550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rial por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280880" indent="-398880">
              <a:spcBef>
                <a:spcPts val="550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allel por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280880" indent="-398880">
              <a:spcBef>
                <a:spcPts val="550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lticast (when Mustang is read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ahoma"/>
              </a:rPr>
              <a:t>How to Program</a:t>
            </a:r>
            <a:endParaRPr b="1" lang="en-US" sz="36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6:14:50Z</dcterms:created>
  <dc:creator>Trustin Lee</dc:creator>
  <dc:description/>
  <dc:language>en-US</dc:language>
  <cp:lastModifiedBy>Trustin Lee</cp:lastModifiedBy>
  <dcterms:modified xsi:type="dcterms:W3CDTF">2005-05-02T08:59:34Z</dcterms:modified>
  <cp:revision>174</cp:revision>
  <dc:subject>Introduction to MINA</dc:subject>
  <dc:title>Introduction to MINA</dc:title>
</cp:coreProperties>
</file>